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7640" y="728640"/>
            <a:ext cx="4848120" cy="36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05480"/>
            <a:ext cx="50292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348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1348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64D6-3BDD-4BCE-8507-FC9A95BB3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921348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3305-BF8F-492F-B70C-8B0B82CA2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921348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49920" cy="36367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606920"/>
            <a:ext cx="50292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921348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A1E8-9862-49AE-BBFA-3FB3548EC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921348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08000" y="728640"/>
            <a:ext cx="4848120" cy="3635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60548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921348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51A4-2820-4B76-95A7-AF74FE345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921348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03320" y="727200"/>
            <a:ext cx="4848120" cy="3636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E5B-6236-4E64-8443-EBF26DA9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D18-B46B-4B01-8320-B2F43415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B0F-B713-45B1-B513-37A5C696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0AE-A384-453F-8BA6-705B06D9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1E2-FCB0-4428-8E7F-AD3E257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35E-3CC2-4886-BECD-7116DF81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2C9-F716-4A5C-BA54-456C7C82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616-F55E-4751-AEC2-76CFCA8A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CD2-6B4A-48AC-A0E4-15CF7092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F8D-8378-433E-B95B-90FDC304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26D-1C50-4575-8B62-F5BB9389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1C0-36B2-47CF-BF9F-EE0460AE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6142-E0CB-445A-B7CB-D40103ECC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858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8920" y="5734080"/>
            <a:ext cx="87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Макеенко, заместитель начальника отдела перспективного планирования, экономического свода и анализа департамента экономического развития Мурма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National Emblem Of Russia"/>
          <p:cNvPicPr/>
          <p:nvPr/>
        </p:nvPicPr>
        <p:blipFill>
          <a:blip r:embed="rId3"/>
          <a:stretch/>
        </p:blipFill>
        <p:spPr>
          <a:xfrm>
            <a:off x="179280" y="189000"/>
            <a:ext cx="841320" cy="907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547640" y="476280"/>
            <a:ext cx="6264360" cy="4057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4581360"/>
            <a:ext cx="86421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атегическое планирование региональн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римере Мурманской обла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1413000"/>
            <a:ext cx="2556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июня 2006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Мурма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20000" cy="431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р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25"/>
              </a:spcBef>
              <a:spcAft>
                <a:spcPts val="82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менения в законодательстве, в том числе налогов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spcAft>
                <a:spcPts val="82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определенность по тем или иным направлениям развития (к примеру, освоение шельфа, использование Севморпути, формирование грузопотоков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spcAft>
                <a:spcPts val="82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нешнеэкономическая конъюнкту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spcAft>
                <a:spcPts val="82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фляц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spcAft>
                <a:spcPts val="82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дминистративные барье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spcAft>
                <a:spcPts val="82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цессы глобализации, интеграции и специализации, обострение конкурентной борьбы на мировых рын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тегия развития области до 201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4072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макроэкономические и социально-демографические показатели развития области на период до 201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тегия развития области до 201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24000" y="1052640"/>
          <a:ext cx="8640720" cy="5348160"/>
        </p:xfrm>
        <a:graphic>
          <a:graphicData uri="http://schemas.openxmlformats.org/drawingml/2006/table">
            <a:tbl>
              <a:tblPr/>
              <a:tblGrid>
                <a:gridCol w="525240"/>
                <a:gridCol w="3306960"/>
                <a:gridCol w="1652400"/>
                <a:gridCol w="752400"/>
                <a:gridCol w="827280"/>
                <a:gridCol w="825480"/>
                <a:gridCol w="75096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П (в ценах 2000 год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4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77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97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ции в основной капитал-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ценах 2000 год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89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8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11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родукции и услуг (без НДС и акциза) (в ценах 2000 года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6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35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709</a:t>
                      </a:r>
                      <a:r>
                        <a:rPr b="1" lang="en-US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e8c20"/>
                          </a:solidFill>
                          <a:uFillTx/>
                          <a:latin typeface="Times New Roman"/>
                          <a:ea typeface="Times New Roman"/>
                        </a:rPr>
                        <a:t>770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169489</a:t>
                      </a:r>
                      <a:r>
                        <a:rPr b="1" lang="en-US" sz="1300" spc="-1" strike="noStrike" baseline="30000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ce351c"/>
                          </a:solidFill>
                          <a:uFillTx/>
                          <a:latin typeface="Times New Roman"/>
                          <a:ea typeface="Times New Roman"/>
                        </a:rPr>
                        <a:t>974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343329</a:t>
                      </a:r>
                      <a:r>
                        <a:rPr b="1" lang="en-US" sz="1300" spc="-1" strike="noStrike" baseline="30000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остоянного населения (среднегодовая),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,9</a:t>
                      </a:r>
                      <a:r>
                        <a:rPr b="1" lang="en-US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0</a:t>
                      </a:r>
                      <a:r>
                        <a:rPr b="1" lang="en-US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868,6</a:t>
                      </a:r>
                      <a:r>
                        <a:rPr b="1" lang="en-US" sz="1300" spc="-1" strike="noStrike" baseline="30000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818,6</a:t>
                      </a:r>
                      <a:r>
                        <a:rPr b="1" lang="en-US" sz="1300" spc="-1" strike="noStrike" baseline="30000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о в экономике обл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3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работающих по полному кругу пред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315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278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заработная плата на одного работн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3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1249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1717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потребительских цен в среднем за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-1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106-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102-1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безработицы к ЭАН (в среднегодовом исчислени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душевой дох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ей в меся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1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10001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1528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житочный миниму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ей в меся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7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47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6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размер пенсии по возрас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ей в меся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4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55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бедности (доля населения с доходами ниже прожиточного минимум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e8c2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e351c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39640" y="6445080"/>
            <a:ext cx="7920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авочно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полагаемые показатели при реализации проекта освоения Штокмановского месторожд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**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учета ретроспективного пересчета от итогов Всероссийской переписи населения 2002 года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1052640"/>
            <a:ext cx="8642520" cy="71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рабочих групп Комиссии по реализации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2205000"/>
            <a:ext cx="856944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но-промышленный компл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пливно-энергетический компл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охозяйственный компл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опромышленный компл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ельство, жилищно-коммунальное и дорож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но-коммуникационный компл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биз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-аналитическое обеспечение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тегия развития области до 201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777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заседаниях Комиссии рассмотрены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1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Генеральной схеме развития Мурманского транспортного уз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проекте строительства нового алюминиевого завода (КАЗ-СУАЛ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воспроизводстве рудной базы и перспективах развития ОАО «Апатит», ОАО «Оленегорский ГОК», ОАО «Кольская ГМ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развитии рыбопромышленного и агропромышленного комплек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 участии организаций области в  освоении углеводородных ресурсов шельфа Ар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5300640"/>
            <a:ext cx="871380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год – Стратегия развития тур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 год – Стратегия развития науки, научно-технической и инноваци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 год – Стратегия развития строительного компл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тегия развития области до 201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869000"/>
            <a:ext cx="77752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атегия дополнена новыми раздел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дровое обеспечение Стратегии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условий, необходимых для удовлетворения потребностей населения в доступных видах и уровнях профессионального образования, соответствующих кадровой структуре экономики и социальной сферы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1268280"/>
            <a:ext cx="23036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ая ц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4149720"/>
            <a:ext cx="7704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формировать систему прогнозирования регионального государственного заказа на подготовку кад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еспечить возможности оптимизации и  развития  системы профессионального образования области с учетом реализации регионального государственного зака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3500280"/>
            <a:ext cx="27367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6021360"/>
            <a:ext cx="83534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готовку кадров высшей квалификации в области осуществляют 2 университета и более 30 филиалов высших учебных заведений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ирование инновационной инфра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012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б основах организации научной,  научно-технической и инновационной  деятельности в Мурманской област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б инновациях и инновационной деятельности в Мурманской обла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995280" y="3645000"/>
            <a:ext cx="4969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451"/>
              </a:spcBef>
              <a:buClr>
                <a:srgbClr val="ff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созданию областного инновационного бизнес-инкуба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дготовке г. Апатиты к получению статуса наукограда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развитию центров энергетической эффективности и глубокой переработки гидробионтов (на базе МГ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1447920"/>
            <a:ext cx="3809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3657600"/>
            <a:ext cx="3961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П «Технопарк Апатит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ский центр трансфера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новых инновационных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981000"/>
            <a:ext cx="72010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няты региональные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141720"/>
            <a:ext cx="29527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бласти созд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3141720"/>
            <a:ext cx="26636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дется работа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5877000"/>
            <a:ext cx="4321440" cy="580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 областного бюджета поддержано 44 исследовательских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1125360"/>
            <a:ext cx="8137440" cy="1193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цепция социально-экономического развития Мурманской области на период до 2005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Постановление Губернатора области от 08.02.2001, №47-ПГ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2720" y="2852640"/>
            <a:ext cx="8136000" cy="1181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тегия экономического развития Мурманской области на период до 2015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Постановление Правительства области от 20.12.2001, № 251-П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2720" y="4581360"/>
            <a:ext cx="8136000" cy="1181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а социально-экономического развития Мурманской области на 2004-2008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Закон Мурманской области от 10.02.2005, № 594-01-ЗМ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2349360"/>
            <a:ext cx="720720" cy="503280"/>
          </a:xfrm>
          <a:prstGeom prst="downArrow">
            <a:avLst>
              <a:gd name="adj1" fmla="val 50000"/>
              <a:gd name="adj2" fmla="val 25000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4078440"/>
            <a:ext cx="720720" cy="502920"/>
          </a:xfrm>
          <a:prstGeom prst="downArrow">
            <a:avLst>
              <a:gd name="adj1" fmla="val 50000"/>
              <a:gd name="adj2" fmla="val 25000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08080" y="0"/>
            <a:ext cx="8935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а социально-экономического развития на 2004-2008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907920"/>
            <a:ext cx="8588160" cy="865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ая цель - повышение уровня и качества жизни населения на основе устойчивого экономическ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1905120"/>
            <a:ext cx="3558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Цели Программы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создание условий для устойчивого экономического роста и развития социальной сферы, обеспечения занятости населения и преодоления бедности на основе формирования благоприятного предпринимательского и инвестиционного климата, эффективного использования минерально-сырьевой базы и биологических ресурсов, производственного, трудового и интеллектуального потенциалов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72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ы и источники финансировани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9890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ммарный объем финансирования в 2004 - 2008 годы (в среднегодовых ценах 2004 года) составля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7.8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рд. рублей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ственные средства участников Программы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,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лрд. рублей (73%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а федерального бюджета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,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лрд. рублей (7 %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а областного бюджета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лрд. рублей (4.85%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а муниципальных бюджетов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лрд. рублей (3.45%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диты коммерческих банков и средства инвесторов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лрд. рублей (6,17%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а других   внебюджетных источников 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8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лрд. руб. (5,53%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6237360"/>
            <a:ext cx="84582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г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ектов, в том числ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участием 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8080" y="0"/>
            <a:ext cx="8935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а социально-экономического развития на 2004-2008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70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жидаемые результаты реализации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0323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П - 119,2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ём производства  промышленной продукции – 117,3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ём услуг (транспорт, связь) – 112,1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вестиции в основной капитал – 138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рядные работы – 152,6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ём производства продукции и услуг малых предприятий – 138,6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700280"/>
            <a:ext cx="417672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spcAft>
                <a:spcPts val="67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20 тысяч новых рабочих мест, сохранение 16.9 тысяч рабочих м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spcAft>
                <a:spcPts val="67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кращение уровня регистрируемой безработицы с 4.4 до 3.2 –2.8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spcAft>
                <a:spcPts val="67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т реальных денежных доходов населения на  20-22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spcAft>
                <a:spcPts val="67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ижение уровня бедности до 12-14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spcAft>
                <a:spcPts val="675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ство и реконструкция в области 342 тысяч квадратных метров жил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080" y="0"/>
            <a:ext cx="8935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а социально-экономического развития на 2004-2008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80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рманская область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3492360" cy="2516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952880" y="1846440"/>
            <a:ext cx="4000680" cy="316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80000" y="3284640"/>
            <a:ext cx="50036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никальные по составу и запасам минерально-сырьевые и биологически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замерзающий Кольский зал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й выход в Мирово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ничит с Норвегией и Финлянд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ник Баренцева Евроарктического рег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843200">
            <a:off x="951480" y="1276560"/>
            <a:ext cx="431640" cy="649080"/>
          </a:xfrm>
          <a:prstGeom prst="upArrow">
            <a:avLst>
              <a:gd name="adj1" fmla="val 50000"/>
              <a:gd name="adj2" fmla="val 37594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836640"/>
            <a:ext cx="522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а на Кольском полуострове севернее Полярного к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ритория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4.9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с. кв.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еление – 864.6 тыс.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2 муниципальных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068640"/>
            <a:ext cx="3384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ое географическо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еополитическое по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70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полнение программы в 2004-2005 год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0323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2004 – 2005 годах осуществлялась реализация 195 прое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ло израсходовано 17.2 млрд. рублей (в том числе федеральный бюджет – 1.3 млрд. рублей, областной бюджет – 1.1 млрд. рублей, муниципальные бюджеты – 222.4 млн. рубл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1700280"/>
            <a:ext cx="417672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ень безработицы сократился в 2004 году до 4.1%, в 2005 году - до 3.9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ень бедности в 2005 году составил 20.3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альные доходы населения возросли по отношению к 2003 году: в 2004 году на 3.5 %, в 2005 году - на 10.5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8080" y="0"/>
            <a:ext cx="8935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а социально-экономического развития на 2004-2008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85800" cy="90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National Emblem Of Russia"/>
          <p:cNvPicPr/>
          <p:nvPr/>
        </p:nvPicPr>
        <p:blipFill>
          <a:blip r:embed="rId3"/>
          <a:stretch/>
        </p:blipFill>
        <p:spPr>
          <a:xfrm>
            <a:off x="179280" y="189000"/>
            <a:ext cx="841320" cy="907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187280" y="836640"/>
            <a:ext cx="7417080" cy="4803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260280"/>
            <a:ext cx="705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59500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200" y="152280"/>
            <a:ext cx="91346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ласть в общероссийском производст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7640" y="2060640"/>
            <a:ext cx="163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ОА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«КОВДОРСКИЙ ГОК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0360" y="3429000"/>
            <a:ext cx="148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ОА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«КОВДОРСЛЮД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6308640"/>
            <a:ext cx="129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ОАО «АПАТИТ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78560" y="6165720"/>
            <a:ext cx="1643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ОАО КОЛЬСКАЯ ГМ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«СЕВЕРОНИКЕЛЬ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18080" y="4667400"/>
            <a:ext cx="1643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ОАО КОЛЬСКАЯ ГМ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«ПЕЧЕНГАНИКЕЛЬ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65240" y="3468600"/>
            <a:ext cx="1663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«ЛОВОЗЕРСКийГОК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94560" y="2133720"/>
            <a:ext cx="120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ОАО «ОЛК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812000" y="3860640"/>
            <a:ext cx="70344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360" y="2552760"/>
            <a:ext cx="1079280" cy="915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878600" y="5373720"/>
            <a:ext cx="649440" cy="708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667640" y="1413000"/>
            <a:ext cx="1085760" cy="799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39640" y="1413000"/>
            <a:ext cx="847800" cy="60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539640" y="3933720"/>
            <a:ext cx="844560" cy="868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7737480" y="2514600"/>
            <a:ext cx="824040" cy="892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539640" y="5516640"/>
            <a:ext cx="739800" cy="753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108000" y="4869000"/>
            <a:ext cx="205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Филиал ОАО «СУАЛ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«КАЗ-СУАЛ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40240" y="2185920"/>
            <a:ext cx="2733840" cy="595440"/>
          </a:xfrm>
          <a:custGeom>
            <a:avLst/>
            <a:gdLst/>
            <a:ahLst/>
            <a:rect l="l" t="t" r="r" b="b"/>
            <a:pathLst>
              <a:path w="1866" h="270">
                <a:moveTo>
                  <a:pt x="0" y="0"/>
                </a:moveTo>
                <a:lnTo>
                  <a:pt x="0" y="270"/>
                </a:lnTo>
                <a:lnTo>
                  <a:pt x="1866" y="270"/>
                </a:lnTo>
                <a:lnTo>
                  <a:pt x="186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2781360"/>
            <a:ext cx="2733480" cy="647640"/>
          </a:xfrm>
          <a:custGeom>
            <a:avLst/>
            <a:gdLst/>
            <a:ahLst/>
            <a:rect l="l" t="t" r="r" b="b"/>
            <a:pathLst>
              <a:path w="1770" h="396">
                <a:moveTo>
                  <a:pt x="0" y="0"/>
                </a:moveTo>
                <a:lnTo>
                  <a:pt x="0" y="396"/>
                </a:lnTo>
                <a:lnTo>
                  <a:pt x="1770" y="396"/>
                </a:lnTo>
                <a:lnTo>
                  <a:pt x="177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40240" y="4138560"/>
            <a:ext cx="1046160" cy="628560"/>
          </a:xfrm>
          <a:custGeom>
            <a:avLst/>
            <a:gdLst/>
            <a:ahLst/>
            <a:rect l="l" t="t" r="r" b="b"/>
            <a:pathLst>
              <a:path w="1866" h="396">
                <a:moveTo>
                  <a:pt x="0" y="0"/>
                </a:moveTo>
                <a:lnTo>
                  <a:pt x="0" y="396"/>
                </a:lnTo>
                <a:lnTo>
                  <a:pt x="1866" y="396"/>
                </a:lnTo>
                <a:lnTo>
                  <a:pt x="186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0880" y="3429000"/>
            <a:ext cx="2734920" cy="360360"/>
          </a:xfrm>
          <a:custGeom>
            <a:avLst/>
            <a:gdLst/>
            <a:ahLst/>
            <a:rect l="l" t="t" r="r" b="b"/>
            <a:pathLst>
              <a:path w="1866" h="270">
                <a:moveTo>
                  <a:pt x="0" y="0"/>
                </a:moveTo>
                <a:lnTo>
                  <a:pt x="0" y="270"/>
                </a:lnTo>
                <a:lnTo>
                  <a:pt x="1866" y="270"/>
                </a:lnTo>
                <a:lnTo>
                  <a:pt x="186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3012"/>
              </a:gs>
              <a:gs pos="100000">
                <a:srgbClr val="d6b19c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30880" y="4786200"/>
            <a:ext cx="774360" cy="428760"/>
          </a:xfrm>
          <a:custGeom>
            <a:avLst/>
            <a:gdLst/>
            <a:ahLst/>
            <a:rect l="l" t="t" r="r" b="b"/>
            <a:pathLst>
              <a:path w="528" h="270">
                <a:moveTo>
                  <a:pt x="0" y="0"/>
                </a:moveTo>
                <a:lnTo>
                  <a:pt x="0" y="270"/>
                </a:lnTo>
                <a:lnTo>
                  <a:pt x="528" y="270"/>
                </a:lnTo>
                <a:lnTo>
                  <a:pt x="52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99ffcc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40240" y="3789360"/>
            <a:ext cx="1257120" cy="431640"/>
          </a:xfrm>
          <a:custGeom>
            <a:avLst/>
            <a:gdLst/>
            <a:ahLst/>
            <a:rect l="l" t="t" r="r" b="b"/>
            <a:pathLst>
              <a:path w="1860" h="270">
                <a:moveTo>
                  <a:pt x="0" y="0"/>
                </a:moveTo>
                <a:lnTo>
                  <a:pt x="0" y="270"/>
                </a:lnTo>
                <a:lnTo>
                  <a:pt x="1860" y="270"/>
                </a:lnTo>
                <a:lnTo>
                  <a:pt x="186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157720"/>
            <a:ext cx="554040" cy="719280"/>
          </a:xfrm>
          <a:custGeom>
            <a:avLst/>
            <a:gdLst/>
            <a:ahLst/>
            <a:rect l="l" t="t" r="r" b="b"/>
            <a:pathLst>
              <a:path w="378" h="264">
                <a:moveTo>
                  <a:pt x="0" y="0"/>
                </a:moveTo>
                <a:lnTo>
                  <a:pt x="0" y="264"/>
                </a:lnTo>
                <a:lnTo>
                  <a:pt x="378" y="264"/>
                </a:lnTo>
                <a:lnTo>
                  <a:pt x="37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877000"/>
            <a:ext cx="352440" cy="574560"/>
          </a:xfrm>
          <a:custGeom>
            <a:avLst/>
            <a:gdLst/>
            <a:ahLst/>
            <a:rect l="l" t="t" r="r" b="b"/>
            <a:pathLst>
              <a:path w="378" h="264">
                <a:moveTo>
                  <a:pt x="0" y="0"/>
                </a:moveTo>
                <a:lnTo>
                  <a:pt x="0" y="264"/>
                </a:lnTo>
                <a:lnTo>
                  <a:pt x="378" y="264"/>
                </a:lnTo>
                <a:lnTo>
                  <a:pt x="378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979640" y="1557360"/>
          <a:ext cx="5256360" cy="4809960"/>
        </p:xfrm>
        <a:graphic>
          <a:graphicData uri="http://schemas.openxmlformats.org/drawingml/2006/table">
            <a:tbl>
              <a:tblPr/>
              <a:tblGrid>
                <a:gridCol w="2448000"/>
                <a:gridCol w="2808360"/>
              </a:tblGrid>
              <a:tr h="58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атитовый концент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юды, ниобий, тан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елин, бадделе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рамическое сы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езорудный концент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юминий и электроэнер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4430880" y="1738440"/>
            <a:ext cx="0" cy="43434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2354400"/>
            <a:ext cx="6332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7440" y="3002040"/>
            <a:ext cx="9820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 -10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3505320"/>
            <a:ext cx="6332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27920" y="3800520"/>
            <a:ext cx="5205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16600" y="4354560"/>
            <a:ext cx="5205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7360" y="4867200"/>
            <a:ext cx="5205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45280" y="5268960"/>
            <a:ext cx="407520" cy="274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4000" y="5881680"/>
            <a:ext cx="407520" cy="274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836640"/>
            <a:ext cx="6192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ждая шестая тонна пищевой рыбной продукции вырабатывается на мурманских предприят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708360" y="6021360"/>
            <a:ext cx="568440" cy="5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78160" y="3789360"/>
            <a:ext cx="2320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0960" y="6548400"/>
            <a:ext cx="197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81240" y="6548400"/>
            <a:ext cx="6681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3464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спорт основных видов товаров</a:t>
            </a:r>
            <a:br>
              <a:rPr sz="24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 процентах к ито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4920" y="833400"/>
          <a:ext cx="8423280" cy="537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833400"/>
                    <a:ext cx="842328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тегия развития области до 201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иметь целевые ориентиры долгосрочного социально-экономического развития области, с четкими  представлениями о базовых принципах, основных  приоритетах, источниках и механизмах их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в определенности и предсказуемости региональной социально-экономической политики, понятной для населения и бизн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197000"/>
            <a:ext cx="77770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предпосылки для разработки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576108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зовые комплексы экономики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3888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опромышл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пливно-энерге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ыбопромышл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нспортно-коммуникацио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гропромышл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тегия развития области до 201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132000" y="2297160"/>
            <a:ext cx="6012000" cy="38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5440" cy="50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 Страт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тегия развития области до 201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32000" y="2297160"/>
            <a:ext cx="6012000" cy="3894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2565360"/>
            <a:ext cx="8748720" cy="374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ойчивое функционирование базовых отраслевых комплексов региона на долгосрочную перспективу, постепенный переход от традиционно-сырьевой направленности экономики к инновационной, что, в свою очередь, обеспечит конкурентоспособность в окружающем геоэкономическом пространстве, и, в конечном итоге, создаст благоприятные условия для повышения качества жизни населения обла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ые задачи Страт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ершенствование и развитие производственной и рыночной инфраструктур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версификация производства, создание и освоение новы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шение уровня комплексности использования сырья и углубление его пере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ижение затрат и энергоёмкости, улучшение экологических параметров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ическое перевооружение, реконструкция и  модернизация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715000"/>
            <a:ext cx="9144000" cy="862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нтральная задача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ышение конкурентоспособности региональной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31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оритеты экономической политики Правительства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ержка высокоэффективных мероприятий на предприятиях, осуществляющих внедрение инновационных технологий, освоение наукоёмкой и перспективной прод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проблемы самообеспечения области углеводородным топливом, стимулирование энергосбере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орядочение федерального законодательства в сфере рыбохозяйственных интересов (таможенное, налоговое и т.д.), обеспечение справедливого распределения квот на право вылова наиболее ценных пород рыбы и других гидробионтов, всемерная поддержка организации прибрежного лова, переработки рыбы и морепродуктов на местных рыбоперерабатывающих предприят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ержка сельскохозяйственного произво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условий для повышения конкурентоспособности продукции и услуг предприятий Мурман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кадров для всех отраслей и сфер деятельности и, в первую очередь, для освоения информационных и наукоемк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учшение делового климата и развитие малого бизнеса.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тегия развития области до 201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09:19:43Z</dcterms:created>
  <dc:creator>Семенов С.А.</dc:creator>
  <dc:description/>
  <dc:language>en-US</dc:language>
  <cp:lastModifiedBy>Чертова</cp:lastModifiedBy>
  <dcterms:modified xsi:type="dcterms:W3CDTF">2006-06-23T06:54:48Z</dcterms:modified>
  <cp:revision>807</cp:revision>
  <dc:subject>Стратегия социально-экономическог развития Мурманской области до 2015 года. Основные положения и первые результаты. А.Селин</dc:subject>
  <dc:title>Презентация в Минрегионразвития</dc:title>
</cp:coreProperties>
</file>