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560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3bd"/>
                </a:solidFill>
                <a:latin typeface="Verdana"/>
              </a:rPr>
              <a:t>Click to move the slide</a:t>
            </a: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75389-566B-4AAA-A9C3-8A0D2C74DE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70248-BB9F-4398-99DD-4A2FE31A48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ved by the EU Commission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4 Septemb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0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programme activities have to be finalized by the end of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C3A67-88D7-4B5D-B8BB-2829449143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рограмме участвуют 11 стран (в основном страны, имеющие выход к Балтийскому морю). Это Дания, Швеция, Финляндия, Германия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веро-восток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стония, Литва, Латвия, Польша, Норвегия, Беларусь (участвуют Минская, Гродненская, Брестская, Витебская области), регионы России. Красные точки на карте – расположение офисов Совместного Секретариата (один из органов управления программой), зеленые – предполагаемое местонахождение инфо. пун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F5A89-A55C-4EAE-938E-E69DD070EE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66B32-25C8-48DD-BB83-22B15E826E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. слай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3392640"/>
            <a:ext cx="75898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4785840"/>
            <a:ext cx="75898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3392640"/>
            <a:ext cx="370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360" y="3392640"/>
            <a:ext cx="370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4785840"/>
            <a:ext cx="370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360" y="4785840"/>
            <a:ext cx="370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3392640"/>
            <a:ext cx="244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1360" y="3392640"/>
            <a:ext cx="244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7800" y="3392640"/>
            <a:ext cx="244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4785840"/>
            <a:ext cx="244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1360" y="4785840"/>
            <a:ext cx="244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7800" y="4785840"/>
            <a:ext cx="244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5280" y="3392640"/>
            <a:ext cx="75898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280" y="3392640"/>
            <a:ext cx="75898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280" y="3392640"/>
            <a:ext cx="37036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360" y="3392640"/>
            <a:ext cx="37036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5280" y="1695240"/>
            <a:ext cx="758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486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3392640"/>
            <a:ext cx="370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3392640"/>
            <a:ext cx="37036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5280" y="4785840"/>
            <a:ext cx="370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3392640"/>
            <a:ext cx="75898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3392640"/>
            <a:ext cx="37036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360" y="3392640"/>
            <a:ext cx="370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4360" y="4785840"/>
            <a:ext cx="370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280" y="3392640"/>
            <a:ext cx="370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360" y="3392640"/>
            <a:ext cx="370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5280" y="4785840"/>
            <a:ext cx="75898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280" y="3392640"/>
            <a:ext cx="75898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5280" y="4785840"/>
            <a:ext cx="75898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280" y="3392640"/>
            <a:ext cx="370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360" y="3392640"/>
            <a:ext cx="370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280" y="4785840"/>
            <a:ext cx="370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4360" y="4785840"/>
            <a:ext cx="370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3392640"/>
            <a:ext cx="244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21360" y="3392640"/>
            <a:ext cx="244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7800" y="3392640"/>
            <a:ext cx="244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5280" y="4785840"/>
            <a:ext cx="244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21360" y="4785840"/>
            <a:ext cx="244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7800" y="4785840"/>
            <a:ext cx="244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3392640"/>
            <a:ext cx="75898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3392640"/>
            <a:ext cx="37036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360" y="3392640"/>
            <a:ext cx="37036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1695240"/>
            <a:ext cx="758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486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3392640"/>
            <a:ext cx="370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360" y="3392640"/>
            <a:ext cx="37036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4785840"/>
            <a:ext cx="370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3392640"/>
            <a:ext cx="37036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3392640"/>
            <a:ext cx="370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360" y="4785840"/>
            <a:ext cx="370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3392640"/>
            <a:ext cx="370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3392640"/>
            <a:ext cx="37036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4785840"/>
            <a:ext cx="758988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731960" cy="681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3bd"/>
                </a:solidFill>
                <a:latin typeface="Verdana"/>
              </a:rPr>
              <a:t>Click to edit the title text format</a:t>
            </a: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280" y="3392640"/>
            <a:ext cx="75898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lnSpc>
                <a:spcPts val="2486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bd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  <a:p>
            <a:pPr lvl="1" marL="1080">
              <a:lnSpc>
                <a:spcPts val="2486"/>
              </a:lnSpc>
              <a:spcAft>
                <a:spcPts val="1239"/>
              </a:spcAft>
              <a:buClr>
                <a:srgbClr val="0073bd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bd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  <a:p>
            <a:pPr lvl="2" marL="2520">
              <a:lnSpc>
                <a:spcPts val="2486"/>
              </a:lnSpc>
              <a:spcAft>
                <a:spcPts val="1239"/>
              </a:spcAft>
              <a:buClr>
                <a:srgbClr val="0073bd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bd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  <a:p>
            <a:pPr lvl="3" marL="1343880" indent="-191880">
              <a:lnSpc>
                <a:spcPts val="2486"/>
              </a:lnSpc>
              <a:spcAft>
                <a:spcPts val="1239"/>
              </a:spcAft>
              <a:buClr>
                <a:srgbClr val="0073bd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b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  <a:p>
            <a:pPr lvl="4" marL="1728000" indent="-191880">
              <a:lnSpc>
                <a:spcPts val="2486"/>
              </a:lnSpc>
              <a:spcAft>
                <a:spcPts val="1239"/>
              </a:spcAft>
              <a:buClr>
                <a:srgbClr val="0073bd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b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  <a:p>
            <a:pPr lvl="5" marL="1728000" indent="-191880">
              <a:lnSpc>
                <a:spcPts val="2486"/>
              </a:lnSpc>
              <a:spcAft>
                <a:spcPts val="1239"/>
              </a:spcAft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b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  <a:p>
            <a:pPr lvl="6" marL="1728000" indent="-191880">
              <a:lnSpc>
                <a:spcPts val="2486"/>
              </a:lnSpc>
              <a:spcAft>
                <a:spcPts val="1239"/>
              </a:spcAft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b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8451720" y="6172200"/>
            <a:ext cx="615960" cy="4366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6643800"/>
            <a:ext cx="9144000" cy="21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Verdana"/>
              </a:rPr>
              <a:t>Семинар по проекту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Developing Excellence -  DEX</a:t>
            </a:r>
            <a:r>
              <a:rPr b="1" lang="ru-RU" sz="800" spc="-1" strike="noStrike">
                <a:solidFill>
                  <a:srgbClr val="ffffff"/>
                </a:solidFill>
                <a:latin typeface="Verdana"/>
              </a:rPr>
              <a:t>, Мурманск</a:t>
            </a:r>
            <a:r>
              <a:rPr b="1" lang="en-GB" sz="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ru-RU" sz="800" spc="-1" strike="noStrike">
                <a:solidFill>
                  <a:srgbClr val="ffffff"/>
                </a:solidFill>
                <a:latin typeface="Verdana"/>
              </a:rPr>
              <a:t>28 июня,</a:t>
            </a:r>
            <a:r>
              <a:rPr b="1" lang="en-GB" sz="800" spc="-1" strike="noStrike">
                <a:solidFill>
                  <a:srgbClr val="ffffff"/>
                </a:solidFill>
                <a:latin typeface="Verdana"/>
              </a:rPr>
              <a:t> 2006</a:t>
            </a:r>
            <a:r>
              <a:rPr b="1" lang="ru-RU" sz="800" spc="-1" strike="noStrike">
                <a:solidFill>
                  <a:srgbClr val="ffffff"/>
                </a:solidFill>
                <a:latin typeface="Verdana"/>
              </a:rPr>
              <a:t>г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731960" cy="681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458200" y="6116760"/>
            <a:ext cx="615960" cy="436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643800"/>
            <a:ext cx="9144000" cy="21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Verdana"/>
              </a:rPr>
              <a:t>Семинар по проекту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Developing Excellence -  DEX</a:t>
            </a:r>
            <a:r>
              <a:rPr b="1" lang="ru-RU" sz="800" spc="-1" strike="noStrike">
                <a:solidFill>
                  <a:srgbClr val="ffffff"/>
                </a:solidFill>
                <a:latin typeface="Verdana"/>
              </a:rPr>
              <a:t>, Мурманск</a:t>
            </a:r>
            <a:r>
              <a:rPr b="1" lang="en-GB" sz="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ru-RU" sz="800" spc="-1" strike="noStrike">
                <a:solidFill>
                  <a:srgbClr val="ffffff"/>
                </a:solidFill>
                <a:latin typeface="Verdana"/>
              </a:rPr>
              <a:t>28 июня,</a:t>
            </a:r>
            <a:r>
              <a:rPr b="1" lang="en-GB" sz="800" spc="-1" strike="noStrike">
                <a:solidFill>
                  <a:srgbClr val="ffffff"/>
                </a:solidFill>
                <a:latin typeface="Verdana"/>
              </a:rPr>
              <a:t> 2006</a:t>
            </a:r>
            <a:r>
              <a:rPr b="1" lang="ru-RU" sz="800" spc="-1" strike="noStrike">
                <a:solidFill>
                  <a:srgbClr val="ffffff"/>
                </a:solidFill>
                <a:latin typeface="Verdana"/>
              </a:rPr>
              <a:t>г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3bd"/>
                </a:solidFill>
                <a:latin typeface="Verdana"/>
              </a:rPr>
              <a:t>Click to edit the title text format</a:t>
            </a: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486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bd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  <a:p>
            <a:pPr lvl="1" marL="1440" indent="0" algn="ctr">
              <a:lnSpc>
                <a:spcPts val="15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3bd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73bd"/>
              </a:solidFill>
              <a:latin typeface="Verdana"/>
            </a:endParaRPr>
          </a:p>
          <a:p>
            <a:pPr lvl="2" marL="3240" algn="ctr">
              <a:lnSpc>
                <a:spcPts val="2486"/>
              </a:lnSpc>
              <a:spcBef>
                <a:spcPts val="1239"/>
              </a:spcBef>
              <a:buClr>
                <a:srgbClr val="0073bd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bd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  <a:p>
            <a:pPr lvl="3" marL="1136520" indent="235080" algn="ctr">
              <a:lnSpc>
                <a:spcPts val="2486"/>
              </a:lnSpc>
              <a:spcBef>
                <a:spcPts val="1239"/>
              </a:spcBef>
              <a:buClr>
                <a:srgbClr val="0073bd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b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  <a:p>
            <a:pPr lvl="4" marL="1514520" indent="314280" algn="ctr">
              <a:lnSpc>
                <a:spcPts val="2486"/>
              </a:lnSpc>
              <a:spcBef>
                <a:spcPts val="1239"/>
              </a:spcBef>
              <a:buClr>
                <a:srgbClr val="0073bd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b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  <a:p>
            <a:pPr lvl="5" marL="1514520" indent="3142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b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  <a:p>
            <a:pPr lvl="6" marL="1514520" indent="3142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b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uropa.eu.int/comm/regional_policy/interreg3/images/pdf/int3b_alpine_a4p.pdf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europa.eu.int/comm/regional_policy/interreg3/images/pdf/int3b_archimed_a4p.pdf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europa.eu.int/comm/regional_policy/interreg3/images/pdf/int3b_atlantic_a4p.pdf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europa.eu.int/comm/regional_policy/interreg3/images/pdf/int3b_baltic_a4p.pdf" TargetMode="External"/><Relationship Id="rId8" Type="http://schemas.openxmlformats.org/officeDocument/2006/relationships/image" Target="../media/image7.png"/><Relationship Id="rId9" Type="http://schemas.openxmlformats.org/officeDocument/2006/relationships/hyperlink" Target="http://europa.eu.int/comm/regional_policy/interreg3/images/pdf/int3b_northwest_eur_a4p.pdf" TargetMode="External"/><Relationship Id="rId10" Type="http://schemas.openxmlformats.org/officeDocument/2006/relationships/image" Target="../media/image8.png"/><Relationship Id="rId11" Type="http://schemas.openxmlformats.org/officeDocument/2006/relationships/hyperlink" Target="http://europa.eu.int/comm/regional_policy/interreg3/images/pdf/int3b_northsea_a4p.pdf" TargetMode="External"/><Relationship Id="rId12" Type="http://schemas.openxmlformats.org/officeDocument/2006/relationships/image" Target="../media/image9.png"/><Relationship Id="rId13" Type="http://schemas.openxmlformats.org/officeDocument/2006/relationships/hyperlink" Target="http://europa.eu.int/comm/regional_policy/interreg3/images/pdf/int3b_cadses_a4p.pdf" TargetMode="External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slideLayout" Target="../slideLayouts/slideLayout3.xml"/><Relationship Id="rId2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295280"/>
            <a:ext cx="7238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ru-RU" sz="3000" spc="-1" strike="noStrike">
                <a:solidFill>
                  <a:srgbClr val="0073bd"/>
                </a:solidFill>
                <a:latin typeface="Verdana"/>
              </a:rPr>
              <a:t>Программ</a:t>
            </a:r>
            <a:r>
              <a:rPr b="1" lang="de-DE" sz="3000" spc="-1" strike="noStrike">
                <a:solidFill>
                  <a:srgbClr val="0073bd"/>
                </a:solidFill>
                <a:latin typeface="Verdana"/>
              </a:rPr>
              <a:t>ы</a:t>
            </a:r>
            <a:r>
              <a:rPr b="1" lang="ru-RU" sz="3000" spc="-1" strike="noStrike">
                <a:solidFill>
                  <a:srgbClr val="0073bd"/>
                </a:solidFill>
                <a:latin typeface="Verdana"/>
              </a:rPr>
              <a:t> соседства региона</a:t>
            </a:r>
            <a:r>
              <a:rPr b="1" lang="en-GB" sz="3000" spc="-1" strike="noStrike">
                <a:solidFill>
                  <a:srgbClr val="0073bd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ru-RU" sz="3000" spc="-1" strike="noStrike">
                <a:solidFill>
                  <a:srgbClr val="0073bd"/>
                </a:solidFill>
                <a:latin typeface="Verdana"/>
              </a:rPr>
              <a:t>Балтийского мор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ru-RU" sz="2800" spc="-1" strike="noStrike">
                <a:solidFill>
                  <a:srgbClr val="0073bd"/>
                </a:solidFill>
                <a:latin typeface="Verdana"/>
              </a:rPr>
              <a:t>ИНТЕРРЕГ </a:t>
            </a:r>
            <a:r>
              <a:rPr b="1" lang="en-US" sz="2800" spc="-1" strike="noStrike">
                <a:solidFill>
                  <a:srgbClr val="0073bd"/>
                </a:solidFill>
                <a:latin typeface="Verdana"/>
              </a:rPr>
              <a:t>III B </a:t>
            </a:r>
            <a:r>
              <a:rPr b="1" lang="ru-RU" sz="2800" spc="-1" strike="noStrike">
                <a:solidFill>
                  <a:srgbClr val="0073bd"/>
                </a:solidFill>
                <a:latin typeface="Verdana"/>
              </a:rPr>
              <a:t>и ИНТЕРРЕГ </a:t>
            </a:r>
            <a:r>
              <a:rPr b="1" lang="en-US" sz="2800" spc="-1" strike="noStrike">
                <a:solidFill>
                  <a:srgbClr val="0073bd"/>
                </a:solidFill>
                <a:latin typeface="Verdana"/>
              </a:rPr>
              <a:t>III A</a:t>
            </a: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543800" y="228600"/>
            <a:ext cx="1508040" cy="1828800"/>
            <a:chOff x="7543800" y="228600"/>
            <a:chExt cx="1508040" cy="182880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7543800" y="228600"/>
              <a:ext cx="15080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903440" y="1616040"/>
              <a:ext cx="66240" cy="6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8079120" y="1369440"/>
              <a:ext cx="462600" cy="143640"/>
              <a:chOff x="8079120" y="1369440"/>
              <a:chExt cx="462600" cy="143640"/>
            </a:xfrm>
          </p:grpSpPr>
          <p:sp>
            <p:nvSpPr>
              <p:cNvPr id="94" name=""/>
              <p:cNvSpPr/>
              <p:nvPr/>
            </p:nvSpPr>
            <p:spPr>
              <a:xfrm>
                <a:off x="8079120" y="1451520"/>
                <a:ext cx="6624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75480" y="1369440"/>
                <a:ext cx="6624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"/>
          <p:cNvSpPr/>
          <p:nvPr/>
        </p:nvSpPr>
        <p:spPr>
          <a:xfrm>
            <a:off x="533520" y="3962520"/>
            <a:ext cx="609588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Белова Еле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3bd"/>
                </a:solidFill>
                <a:latin typeface="Verdana"/>
              </a:rPr>
              <a:t>Леонтьевский центр</a:t>
            </a:r>
            <a:r>
              <a:rPr b="0" lang="de-DE" sz="1800" spc="-1" strike="noStrike">
                <a:solidFill>
                  <a:srgbClr val="0073bd"/>
                </a:solidFill>
                <a:latin typeface="Verdana"/>
              </a:rPr>
              <a:t>,</a:t>
            </a:r>
            <a:r>
              <a:rPr b="0" lang="ru-RU" sz="1800" spc="-1" strike="noStrike">
                <a:solidFill>
                  <a:srgbClr val="0073bd"/>
                </a:solidFill>
                <a:latin typeface="Verdana"/>
              </a:rPr>
              <a:t> Санкт-Петербургский информационный    офис Программы Соседства ре</a:t>
            </a:r>
            <a:r>
              <a:rPr b="0" lang="de-DE" sz="1800" spc="-1" strike="noStrike">
                <a:solidFill>
                  <a:srgbClr val="0073bd"/>
                </a:solidFill>
                <a:latin typeface="Verdana"/>
              </a:rPr>
              <a:t>г</a:t>
            </a:r>
            <a:r>
              <a:rPr b="0" lang="ru-RU" sz="1800" spc="-1" strike="noStrike">
                <a:solidFill>
                  <a:srgbClr val="0073bd"/>
                </a:solidFill>
                <a:latin typeface="Verdana"/>
              </a:rPr>
              <a:t>и</a:t>
            </a:r>
            <a:r>
              <a:rPr b="0" lang="de-DE" sz="1800" spc="-1" strike="noStrike">
                <a:solidFill>
                  <a:srgbClr val="0073bd"/>
                </a:solidFill>
                <a:latin typeface="Verdana"/>
              </a:rPr>
              <a:t>о</a:t>
            </a:r>
            <a:r>
              <a:rPr b="0" lang="ru-RU" sz="1800" spc="-1" strike="noStrike">
                <a:solidFill>
                  <a:srgbClr val="0073bd"/>
                </a:solidFill>
                <a:latin typeface="Verdana"/>
              </a:rPr>
              <a:t>на Балтийского моря </a:t>
            </a:r>
            <a:r>
              <a:rPr b="0" lang="en-GB" sz="1800" spc="-1" strike="noStrike">
                <a:solidFill>
                  <a:srgbClr val="0073bd"/>
                </a:solidFill>
                <a:latin typeface="Verdana"/>
              </a:rPr>
              <a:t>INTERREG III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3bd"/>
                </a:solidFill>
                <a:latin typeface="Verdana"/>
              </a:rPr>
              <a:t>Июнь </a:t>
            </a:r>
            <a:r>
              <a:rPr b="1" lang="en-US" sz="1800" spc="-1" strike="noStrike">
                <a:solidFill>
                  <a:srgbClr val="0073bd"/>
                </a:solidFill>
                <a:latin typeface="Verdana"/>
              </a:rPr>
              <a:t>28</a:t>
            </a:r>
            <a:r>
              <a:rPr b="1" lang="lv-LV" sz="1800" spc="-1" strike="noStrike">
                <a:solidFill>
                  <a:srgbClr val="0073bd"/>
                </a:solidFill>
                <a:latin typeface="Verdana"/>
              </a:rPr>
              <a:t>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3bd"/>
                </a:solidFill>
                <a:latin typeface="Verdana"/>
              </a:rPr>
              <a:t>Мурманс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64480" y="3309840"/>
            <a:ext cx="87156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23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GB" sz="1400" spc="-1" strike="noStrike">
                <a:solidFill>
                  <a:srgbClr val="006bb5"/>
                </a:solidFill>
                <a:latin typeface="Verdana"/>
              </a:rPr>
              <a:t>Belar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23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GB" sz="1400" spc="-1" strike="noStrike">
                <a:solidFill>
                  <a:srgbClr val="006bb5"/>
                </a:solidFill>
                <a:latin typeface="Verdana"/>
              </a:rPr>
              <a:t>Denm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23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GB" sz="1400" spc="-1" strike="noStrike">
                <a:solidFill>
                  <a:srgbClr val="006bb5"/>
                </a:solidFill>
                <a:latin typeface="Verdana"/>
              </a:rPr>
              <a:t>Esto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23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GB" sz="1400" spc="-1" strike="noStrike">
                <a:solidFill>
                  <a:srgbClr val="006bb5"/>
                </a:solidFill>
                <a:latin typeface="Verdana"/>
              </a:rPr>
              <a:t>Fin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23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GB" sz="1400" spc="-1" strike="noStrike">
                <a:solidFill>
                  <a:srgbClr val="006bb5"/>
                </a:solidFill>
                <a:latin typeface="Verdana"/>
              </a:rPr>
              <a:t>Ger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23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GB" sz="1400" spc="-1" strike="noStrike">
                <a:solidFill>
                  <a:srgbClr val="006bb5"/>
                </a:solidFill>
                <a:latin typeface="Verdana"/>
              </a:rPr>
              <a:t>Lat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23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GB" sz="1400" spc="-1" strike="noStrike">
                <a:solidFill>
                  <a:srgbClr val="006bb5"/>
                </a:solidFill>
                <a:latin typeface="Verdana"/>
              </a:rPr>
              <a:t>Lithu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23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GB" sz="1400" spc="-1" strike="noStrike">
                <a:solidFill>
                  <a:srgbClr val="006bb5"/>
                </a:solidFill>
                <a:latin typeface="Verdana"/>
              </a:rPr>
              <a:t>Nor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23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GB" sz="1400" spc="-1" strike="noStrike">
                <a:solidFill>
                  <a:srgbClr val="006bb5"/>
                </a:solidFill>
                <a:latin typeface="Verdana"/>
              </a:rPr>
              <a:t>Po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23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GB" sz="1400" spc="-1" strike="noStrike">
                <a:solidFill>
                  <a:srgbClr val="006bb5"/>
                </a:solidFill>
                <a:latin typeface="Verdana"/>
              </a:rPr>
              <a:t>Rus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23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GB" sz="1400" spc="-1" strike="noStrike">
                <a:solidFill>
                  <a:srgbClr val="006bb5"/>
                </a:solidFill>
                <a:latin typeface="Verdana"/>
              </a:rPr>
              <a:t>Swe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9657" t="20673" r="2755" b="49784"/>
          <a:stretch/>
        </p:blipFill>
        <p:spPr>
          <a:xfrm>
            <a:off x="533520" y="1695600"/>
            <a:ext cx="8229600" cy="4363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68360" y="419040"/>
            <a:ext cx="684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3bd"/>
                </a:solidFill>
                <a:latin typeface="Verdana"/>
              </a:rPr>
              <a:t>8-ой раунд подачи проектных заявок: участие российских регио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828800" y="228600"/>
            <a:ext cx="758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73bd"/>
                </a:solidFill>
                <a:latin typeface="Verdana"/>
              </a:rPr>
              <a:t>Программа Соседства региона Балтийского моря ИНТЕРРЕГ </a:t>
            </a:r>
            <a:r>
              <a:rPr b="1" lang="en-US" sz="2900" spc="-1" strike="noStrike">
                <a:solidFill>
                  <a:srgbClr val="0073bd"/>
                </a:solidFill>
                <a:latin typeface="Verdana"/>
              </a:rPr>
              <a:t>III B</a:t>
            </a:r>
            <a:r>
              <a:rPr b="1" lang="ru-RU" sz="2900" spc="-1" strike="noStrike">
                <a:solidFill>
                  <a:srgbClr val="0073bd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2193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3bd"/>
                </a:solidFill>
                <a:latin typeface="Verdana"/>
              </a:rPr>
              <a:t>Результаты отбора проектных заявок 8-ого рау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05740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58840" indent="-194760" algn="just">
              <a:lnSpc>
                <a:spcPct val="100000"/>
              </a:lnSpc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Всего одобрено 20 проектов сотрудничества, в 19 из которых участвуют партнеры из России и Белорусс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8840" indent="-194760" algn="just">
              <a:lnSpc>
                <a:spcPct val="100000"/>
              </a:lnSpc>
              <a:spcBef>
                <a:spcPts val="1749"/>
              </a:spcBef>
              <a:spcAft>
                <a:spcPts val="499"/>
              </a:spcAft>
              <a:buClr>
                <a:srgbClr val="0073b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2 проекта с участием партнеров из Мурманской обл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16876" t="64846" r="32500" b="10938"/>
          <a:stretch/>
        </p:blipFill>
        <p:spPr>
          <a:xfrm>
            <a:off x="762120" y="3581280"/>
            <a:ext cx="73152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73bd"/>
                </a:solidFill>
                <a:latin typeface="Verdana"/>
              </a:rPr>
              <a:t>ЧТО ДАЛЬШЕ?</a:t>
            </a: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73bd"/>
                </a:solidFill>
                <a:latin typeface="Verdana"/>
              </a:rPr>
              <a:t>Программа Соседства региона Балтийского моря</a:t>
            </a: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73bd"/>
                </a:solidFill>
                <a:latin typeface="Verdana"/>
              </a:rPr>
              <a:t>ИНТЕРРЕГ </a:t>
            </a:r>
            <a:r>
              <a:rPr b="1" lang="en-US" sz="2400" spc="-1" strike="noStrike">
                <a:solidFill>
                  <a:srgbClr val="0073bd"/>
                </a:solidFill>
                <a:latin typeface="Verdana"/>
              </a:rPr>
              <a:t>III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B</a:t>
            </a:r>
            <a:endParaRPr b="0" lang="en-US" sz="2400" spc="-1" strike="noStrike">
              <a:solidFill>
                <a:srgbClr val="0073bd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Решение о начале и формате специального конкурса Тасис по Программе  Соседства </a:t>
            </a:r>
            <a:r>
              <a:rPr b="0" lang="en-US" sz="2400" spc="-1" strike="noStrike">
                <a:solidFill>
                  <a:srgbClr val="0073bd"/>
                </a:solidFill>
                <a:latin typeface="Verdana"/>
              </a:rPr>
              <a:t>BSR INTERREG III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принято Управляющим Комитетом 9 июня в Гданьске.</a:t>
            </a:r>
            <a:endParaRPr b="0" lang="en-US" sz="2400" spc="-1" strike="noStrike">
              <a:solidFill>
                <a:srgbClr val="0073bd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Объявление об открытии конкурса-</a:t>
            </a:r>
            <a:r>
              <a:rPr b="1" lang="ru-RU" sz="2400" spc="-1" strike="noStrike">
                <a:solidFill>
                  <a:srgbClr val="0073bd"/>
                </a:solidFill>
                <a:latin typeface="Verdana"/>
              </a:rPr>
              <a:t>17 июля 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2006 г.,</a:t>
            </a:r>
            <a:endParaRPr b="0" lang="en-US" sz="2400" spc="-1" strike="noStrike">
              <a:solidFill>
                <a:srgbClr val="0073bd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Крайний срок подачи заявок – </a:t>
            </a:r>
            <a:r>
              <a:rPr b="1" lang="ru-RU" sz="2400" spc="-1" strike="noStrike">
                <a:solidFill>
                  <a:srgbClr val="0073bd"/>
                </a:solidFill>
                <a:latin typeface="Verdana"/>
              </a:rPr>
              <a:t>16 октября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 2006 г.</a:t>
            </a:r>
            <a:endParaRPr b="0" lang="en-US" sz="2400" spc="-1" strike="noStrike">
              <a:solidFill>
                <a:srgbClr val="0073bd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Доступное финансирование – </a:t>
            </a:r>
            <a:r>
              <a:rPr b="1" lang="ru-RU" sz="2400" spc="-1" strike="noStrike">
                <a:solidFill>
                  <a:srgbClr val="0073bd"/>
                </a:solidFill>
                <a:latin typeface="Verdana"/>
              </a:rPr>
              <a:t>3,325,000 Евро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76320"/>
            <a:ext cx="758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73bd"/>
                </a:solidFill>
                <a:latin typeface="Verdana"/>
              </a:rPr>
              <a:t>Программа Соседства региона Балтийского моря ИНТЕРРЕГ </a:t>
            </a:r>
            <a:r>
              <a:rPr b="1" lang="en-US" sz="2900" spc="-1" strike="noStrike">
                <a:solidFill>
                  <a:srgbClr val="0073bd"/>
                </a:solidFill>
                <a:latin typeface="Verdana"/>
              </a:rPr>
              <a:t>III B</a:t>
            </a:r>
            <a:r>
              <a:rPr b="1" lang="ru-RU" sz="2900" spc="-1" strike="noStrike">
                <a:solidFill>
                  <a:srgbClr val="0073bd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1111320"/>
            <a:ext cx="861048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78b4"/>
                </a:solidFill>
                <a:latin typeface="Verdana"/>
              </a:rPr>
              <a:t>ПРИОРИТЕТ</a:t>
            </a:r>
            <a:r>
              <a:rPr b="1" lang="en-GB" sz="2100" spc="-1" strike="noStrike">
                <a:solidFill>
                  <a:srgbClr val="0078b4"/>
                </a:solidFill>
                <a:latin typeface="Verdana"/>
              </a:rPr>
              <a:t> 3</a:t>
            </a:r>
            <a:r>
              <a:rPr b="1" lang="ru-RU" sz="2000" spc="-1" strike="noStrike">
                <a:solidFill>
                  <a:srgbClr val="0078b4"/>
                </a:solidFill>
                <a:latin typeface="Verdana"/>
              </a:rPr>
              <a:t>: Транснациональное и двустороннее сотрудничество по поддержке институционального и регионального развития в странах Балтийского реги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76320"/>
            <a:ext cx="758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73bd"/>
                </a:solidFill>
                <a:latin typeface="Verdana"/>
              </a:rPr>
              <a:t>Программа Соседства региона Балтийского моря ИНТЕРРЕГ </a:t>
            </a:r>
            <a:r>
              <a:rPr b="1" lang="en-US" sz="2900" spc="-1" strike="noStrike">
                <a:solidFill>
                  <a:srgbClr val="0073bd"/>
                </a:solidFill>
                <a:latin typeface="Verdana"/>
              </a:rPr>
              <a:t>III B</a:t>
            </a:r>
            <a:r>
              <a:rPr b="1" lang="ru-RU" sz="2900" spc="-1" strike="noStrike">
                <a:solidFill>
                  <a:srgbClr val="0073bd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2168640"/>
            <a:ext cx="8686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адресован проблемам институционального развития и повышении квалификации региональных и местных органов управления и других институтов, занимающихся вопросами пространственного планирования и регионального развития.</a:t>
            </a:r>
            <a:r>
              <a:rPr b="1" lang="ru-RU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состоит из двух мер, обе из которых работают с широким спектром тем, ставших актуальными в связи с расширением ЕС и принятием «Новой программы добрососедства», но эти меры работают в разных форматах. Мера 3.1 поощряет кооперацию организаций на </a:t>
            </a:r>
            <a:r>
              <a:rPr b="1" lang="ru-RU" sz="2000" spc="-1" strike="noStrike">
                <a:solidFill>
                  <a:srgbClr val="336699"/>
                </a:solidFill>
                <a:latin typeface="Verdana"/>
              </a:rPr>
              <a:t>транснациональной 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основе,  в то время как мера 3.2 поддерживает </a:t>
            </a:r>
            <a:r>
              <a:rPr b="1" lang="ru-RU" sz="2000" spc="-1" strike="noStrike">
                <a:solidFill>
                  <a:srgbClr val="336699"/>
                </a:solidFill>
                <a:latin typeface="Verdana"/>
              </a:rPr>
              <a:t>двустороннее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 сотрудничество государств, разделенных морскими границами в регионе Балтийского мор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6320" y="97488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Мера</a:t>
            </a:r>
            <a:r>
              <a:rPr b="1" lang="en-GB" sz="2000" spc="-1" strike="noStrike">
                <a:solidFill>
                  <a:srgbClr val="0073bd"/>
                </a:solidFill>
                <a:latin typeface="Verdana"/>
              </a:rPr>
              <a:t> 3.1:</a:t>
            </a:r>
            <a:r>
              <a:rPr b="0" lang="en-GB" sz="20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Содействие транснациональному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                     </a:t>
            </a: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институциональному сотрудничеств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76320"/>
            <a:ext cx="758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73bd"/>
                </a:solidFill>
                <a:latin typeface="Verdana"/>
              </a:rPr>
              <a:t>Программа Соседства региона Балтийского моря ИНТЕРРЕГ </a:t>
            </a:r>
            <a:r>
              <a:rPr b="1" lang="en-US" sz="2900" spc="-1" strike="noStrike">
                <a:solidFill>
                  <a:srgbClr val="0073bd"/>
                </a:solidFill>
                <a:latin typeface="Verdana"/>
              </a:rPr>
              <a:t>III B</a:t>
            </a:r>
            <a:r>
              <a:rPr b="1" lang="ru-RU" sz="2900" spc="-1" strike="noStrike">
                <a:solidFill>
                  <a:srgbClr val="0073bd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520" y="7314840"/>
            <a:ext cx="861048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50280" indent="-263520">
              <a:lnSpc>
                <a:spcPct val="100000"/>
              </a:lnSpc>
              <a:spcBef>
                <a:spcPts val="176"/>
              </a:spcBef>
              <a:spcAft>
                <a:spcPts val="349"/>
              </a:spcAft>
              <a:buClr>
                <a:srgbClr val="0066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Совместная работа по транснациональному пространственному планированию и развит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63520">
              <a:lnSpc>
                <a:spcPct val="100000"/>
              </a:lnSpc>
              <a:spcBef>
                <a:spcPts val="176"/>
              </a:spcBef>
              <a:spcAft>
                <a:spcPts val="349"/>
              </a:spcAft>
              <a:buClr>
                <a:srgbClr val="0066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Совместная частно-государственная деятельность по созданию условий для развития </a:t>
            </a: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S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63520">
              <a:lnSpc>
                <a:spcPct val="100000"/>
              </a:lnSpc>
              <a:spcBef>
                <a:spcPts val="176"/>
              </a:spcBef>
              <a:spcAft>
                <a:spcPts val="349"/>
              </a:spcAft>
              <a:buClr>
                <a:srgbClr val="0066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Деятельность по совершенствованию прозрачности бизнес-окружения и по упрощению тематической кооперации, включая таможенные вопро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63520">
              <a:lnSpc>
                <a:spcPct val="100000"/>
              </a:lnSpc>
              <a:spcBef>
                <a:spcPts val="176"/>
              </a:spcBef>
              <a:spcAft>
                <a:spcPts val="349"/>
              </a:spcAft>
              <a:buClr>
                <a:srgbClr val="0066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Создание сетей компаний или предприятий с общим интересом развития новых рынков и деловых контак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63520">
              <a:lnSpc>
                <a:spcPct val="100000"/>
              </a:lnSpc>
              <a:spcBef>
                <a:spcPts val="176"/>
              </a:spcBef>
              <a:spcAft>
                <a:spcPts val="349"/>
              </a:spcAft>
              <a:buClr>
                <a:srgbClr val="0066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Деятельность по содействию предпринимательству, включая создание бизнес-инкубатор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63520">
              <a:lnSpc>
                <a:spcPct val="100000"/>
              </a:lnSpc>
              <a:spcBef>
                <a:spcPts val="176"/>
              </a:spcBef>
              <a:spcAft>
                <a:spcPts val="349"/>
              </a:spcAft>
              <a:buClr>
                <a:srgbClr val="0066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Научно-исследовательская работа и распространение информации, особенно в сфере информационных технолог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63520">
              <a:lnSpc>
                <a:spcPct val="100000"/>
              </a:lnSpc>
              <a:spcBef>
                <a:spcPts val="176"/>
              </a:spcBef>
              <a:spcAft>
                <a:spcPts val="349"/>
              </a:spcAft>
              <a:buClr>
                <a:srgbClr val="0066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Деятельность по строительству новых сетей и усилению существующего сотрудничества между государственными, частными  и общественными организациями, с целью продвижения различных ноу-хау и повышения осведомленности  по проблемам  загрязнения окружающей среды и ограниченности природных ресур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63520">
              <a:lnSpc>
                <a:spcPct val="100000"/>
              </a:lnSpc>
              <a:spcBef>
                <a:spcPts val="176"/>
              </a:spcBef>
              <a:spcAft>
                <a:spcPts val="349"/>
              </a:spcAft>
              <a:buClr>
                <a:srgbClr val="0066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Транснациональная деятельность, способствующая пониманию общественностью вопросов энергосбережения, приводящего к долгосрочным изменениям моделей повед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280" y="106668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Мера </a:t>
            </a:r>
            <a:r>
              <a:rPr b="1" lang="en-GB" sz="2000" spc="-1" strike="noStrike">
                <a:solidFill>
                  <a:srgbClr val="0073bd"/>
                </a:solidFill>
                <a:latin typeface="Verdana"/>
              </a:rPr>
              <a:t>3.2:</a:t>
            </a:r>
            <a:r>
              <a:rPr b="0" lang="en-GB" sz="20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Двустороннее сотрудничество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                 </a:t>
            </a: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институциональное развитие  в регио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                 </a:t>
            </a: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Балтийского моря (вдоль морских границ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76320"/>
            <a:ext cx="758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73bd"/>
                </a:solidFill>
                <a:latin typeface="Verdana"/>
              </a:rPr>
              <a:t>Программа Соседства региона Балтийского моря ИНТЕРРЕГ </a:t>
            </a:r>
            <a:r>
              <a:rPr b="1" lang="en-US" sz="2900" spc="-1" strike="noStrike">
                <a:solidFill>
                  <a:srgbClr val="0073bd"/>
                </a:solidFill>
                <a:latin typeface="Verdana"/>
              </a:rPr>
              <a:t>III B</a:t>
            </a:r>
            <a:r>
              <a:rPr b="1" lang="ru-RU" sz="2900" spc="-1" strike="noStrike">
                <a:solidFill>
                  <a:srgbClr val="0073bd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057400"/>
            <a:ext cx="9144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74680">
              <a:lnSpc>
                <a:spcPct val="100000"/>
              </a:lnSpc>
              <a:spcBef>
                <a:spcPts val="176"/>
              </a:spcBef>
              <a:buClr>
                <a:srgbClr val="0073b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3bd"/>
                </a:solidFill>
                <a:latin typeface="Verdana"/>
              </a:rPr>
              <a:t>Стратегии искоренения безработиц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74680">
              <a:lnSpc>
                <a:spcPct val="100000"/>
              </a:lnSpc>
              <a:spcBef>
                <a:spcPts val="176"/>
              </a:spcBef>
              <a:buClr>
                <a:srgbClr val="0073b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3bd"/>
                </a:solidFill>
                <a:latin typeface="Verdana"/>
              </a:rPr>
              <a:t>Деятельность по содействию предпринимательству, включая создание бизнес-инкубатор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74680">
              <a:lnSpc>
                <a:spcPct val="100000"/>
              </a:lnSpc>
              <a:spcBef>
                <a:spcPts val="176"/>
              </a:spcBef>
              <a:buClr>
                <a:srgbClr val="0073b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3bd"/>
                </a:solidFill>
                <a:latin typeface="Verdana"/>
              </a:rPr>
              <a:t>Деятельность по совершенствованию прозрачности бизнес-окружения и усилению двустороннего и международного делового сотрудниче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74680">
              <a:lnSpc>
                <a:spcPct val="100000"/>
              </a:lnSpc>
              <a:spcBef>
                <a:spcPts val="176"/>
              </a:spcBef>
              <a:buClr>
                <a:srgbClr val="0073b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3bd"/>
                </a:solidFill>
                <a:latin typeface="Verdana"/>
              </a:rPr>
              <a:t>Научно-исследовательская работа и распространение информации, особенно в сфере информационных технолог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74680">
              <a:lnSpc>
                <a:spcPct val="100000"/>
              </a:lnSpc>
              <a:spcBef>
                <a:spcPts val="176"/>
              </a:spcBef>
              <a:buClr>
                <a:srgbClr val="0073b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3bd"/>
                </a:solidFill>
                <a:latin typeface="Verdana"/>
              </a:rPr>
              <a:t>Деятельность по строительству новых сетей и усилению существующего сотрудничества между государственными, частными  и общественными организациями, с целью продвижения различных ноу-хау и повышения осведомленности  по проблемам  загрязнения окружающей среды и ограниченности природных ресур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74680">
              <a:lnSpc>
                <a:spcPct val="100000"/>
              </a:lnSpc>
              <a:spcBef>
                <a:spcPts val="176"/>
              </a:spcBef>
              <a:buClr>
                <a:srgbClr val="0073b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3bd"/>
                </a:solidFill>
                <a:latin typeface="Verdana"/>
              </a:rPr>
              <a:t>Проведение предварительных исследований по изучению возможности эффективного использования энергии в общественных зданиях и частных дома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74680">
              <a:lnSpc>
                <a:spcPct val="100000"/>
              </a:lnSpc>
              <a:spcBef>
                <a:spcPts val="176"/>
              </a:spcBef>
              <a:buClr>
                <a:srgbClr val="0073b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3bd"/>
                </a:solidFill>
                <a:latin typeface="Verdana"/>
              </a:rPr>
              <a:t>Деятельность, способствующая пониманию общественностью вопросов энергосбережения, приводящего к долгосрочным изменениям моделей повед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74680">
              <a:lnSpc>
                <a:spcPct val="100000"/>
              </a:lnSpc>
              <a:spcBef>
                <a:spcPts val="176"/>
              </a:spcBef>
              <a:buClr>
                <a:srgbClr val="0073b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3bd"/>
                </a:solidFill>
                <a:latin typeface="Verdana"/>
              </a:rPr>
              <a:t>Проведение предварительных исследований о роли биоэнергии в теплоснабжении общественных зданий и промышленных предприят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74680">
              <a:lnSpc>
                <a:spcPct val="100000"/>
              </a:lnSpc>
              <a:spcBef>
                <a:spcPts val="176"/>
              </a:spcBef>
              <a:buClr>
                <a:srgbClr val="0073b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3bd"/>
                </a:solidFill>
                <a:latin typeface="Verdana"/>
              </a:rPr>
              <a:t>Предварительные исследования по использованию энергии вет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74680">
              <a:lnSpc>
                <a:spcPct val="100000"/>
              </a:lnSpc>
              <a:spcBef>
                <a:spcPts val="176"/>
              </a:spcBef>
              <a:buClr>
                <a:srgbClr val="0073b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0" t="12009" r="32145" b="9229"/>
          <a:stretch/>
        </p:blipFill>
        <p:spPr>
          <a:xfrm>
            <a:off x="152280" y="0"/>
            <a:ext cx="82296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7640" y="1619280"/>
            <a:ext cx="619128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73bd"/>
                </a:solidFill>
                <a:latin typeface="Verdana"/>
              </a:rPr>
              <a:t>Практическая информация</a:t>
            </a:r>
            <a:r>
              <a:rPr b="1" lang="en-GB" sz="2900" spc="-1" strike="noStrike">
                <a:solidFill>
                  <a:srgbClr val="0073bd"/>
                </a:solidFill>
                <a:latin typeface="Verdana"/>
              </a:rPr>
              <a:t>:</a:t>
            </a: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5898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Форма Заявки и программные документы</a:t>
            </a:r>
            <a:r>
              <a:rPr b="0" lang="en-GB" sz="2400" spc="-1" strike="noStrike">
                <a:solidFill>
                  <a:srgbClr val="0073bd"/>
                </a:solidFill>
                <a:latin typeface="Verdana"/>
              </a:rPr>
              <a:t> (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Программа</a:t>
            </a:r>
            <a:r>
              <a:rPr b="0" lang="en-GB" sz="2400" spc="-1" strike="noStrike">
                <a:solidFill>
                  <a:srgbClr val="0073bd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Дополнение к программе</a:t>
            </a:r>
            <a:r>
              <a:rPr b="0" lang="en-GB" sz="2400" spc="-1" strike="noStrike">
                <a:solidFill>
                  <a:srgbClr val="0073bd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Программное руководство</a:t>
            </a:r>
            <a:r>
              <a:rPr b="0" lang="en-GB" sz="2400" spc="-1" strike="noStrike">
                <a:solidFill>
                  <a:srgbClr val="0073bd"/>
                </a:solidFill>
                <a:latin typeface="Verdana"/>
              </a:rPr>
              <a:t>) 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можно найти на сайте программы</a:t>
            </a:r>
            <a:r>
              <a:rPr b="0" lang="en-GB" sz="2400" spc="-1" strike="noStrike">
                <a:solidFill>
                  <a:srgbClr val="0073bd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73bd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73bd"/>
                </a:solidFill>
                <a:uFillTx/>
                <a:latin typeface="Verdana"/>
              </a:rPr>
              <a:t>www.bsrinterreg.net</a:t>
            </a:r>
            <a:endParaRPr b="0" lang="en-US" sz="2400" spc="-1" strike="noStrike">
              <a:solidFill>
                <a:srgbClr val="0073bd"/>
              </a:solidFill>
              <a:latin typeface="Verdana"/>
            </a:endParaRPr>
          </a:p>
          <a:p>
            <a:pPr marL="343080" indent="0" algn="ctr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bd"/>
              </a:solidFill>
              <a:latin typeface="Verdana"/>
            </a:endParaRPr>
          </a:p>
          <a:p>
            <a:pPr marL="343080" indent="0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8440" y="1544760"/>
            <a:ext cx="852660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1360" indent="0" algn="just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3bd"/>
              </a:solidFill>
              <a:latin typeface="Verdana"/>
            </a:endParaRPr>
          </a:p>
          <a:p>
            <a:pPr marL="441360" indent="0" algn="ctr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3bd"/>
                </a:solidFill>
                <a:latin typeface="Verdana"/>
              </a:rPr>
              <a:t>Спасибо за внимание!</a:t>
            </a:r>
            <a:endParaRPr b="0" lang="en-US" sz="4400" spc="-1" strike="noStrike">
              <a:solidFill>
                <a:srgbClr val="0073bd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3bd"/>
                </a:solidFill>
                <a:latin typeface="Verdana"/>
              </a:rPr>
              <a:t>                                </a:t>
            </a:r>
            <a:endParaRPr b="0" lang="en-US" sz="2400" spc="-1" strike="noStrike">
              <a:solidFill>
                <a:srgbClr val="0073bd"/>
              </a:solidFill>
              <a:latin typeface="Verdana"/>
            </a:endParaRPr>
          </a:p>
          <a:p>
            <a:pPr marL="441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3bd"/>
                </a:solidFill>
                <a:latin typeface="Verdana"/>
              </a:rPr>
              <a:t>Белова Елена</a:t>
            </a:r>
            <a:endParaRPr b="0" lang="en-US" sz="2400" spc="-1" strike="noStrike">
              <a:solidFill>
                <a:srgbClr val="0073bd"/>
              </a:solidFill>
              <a:latin typeface="Verdana"/>
            </a:endParaRPr>
          </a:p>
          <a:p>
            <a:pPr marL="441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Санкт-Петербургский информационный    </a:t>
            </a: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  <a:p>
            <a:pPr marL="441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офис Программы Соседства ре</a:t>
            </a:r>
            <a:r>
              <a:rPr b="0" lang="de-DE" sz="2000" spc="-1" strike="noStrike">
                <a:solidFill>
                  <a:srgbClr val="0073bd"/>
                </a:solidFill>
                <a:latin typeface="Verdana"/>
              </a:rPr>
              <a:t>г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и</a:t>
            </a:r>
            <a:r>
              <a:rPr b="0" lang="de-DE" sz="2000" spc="-1" strike="noStrike">
                <a:solidFill>
                  <a:srgbClr val="0073bd"/>
                </a:solidFill>
                <a:latin typeface="Verdana"/>
              </a:rPr>
              <a:t>о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на Балтийского моря </a:t>
            </a:r>
            <a:r>
              <a:rPr b="0" lang="en-GB" sz="2000" spc="-1" strike="noStrike">
                <a:solidFill>
                  <a:srgbClr val="0073bd"/>
                </a:solidFill>
                <a:latin typeface="Verdana"/>
              </a:rPr>
              <a:t>INTERREG III B</a:t>
            </a: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  <a:p>
            <a:pPr marL="441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Тел. +7(812)570-36-26</a:t>
            </a: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  <a:p>
            <a:pPr marL="441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Тел. +7(812)314-14-12</a:t>
            </a: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  <a:p>
            <a:pPr marL="441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Факс:+7(812)570-38-14</a:t>
            </a: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  <a:p>
            <a:pPr marL="441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bd"/>
                </a:solidFill>
                <a:latin typeface="Verdana"/>
              </a:rPr>
              <a:t>Email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73bd"/>
                </a:solidFill>
                <a:latin typeface="Verdana"/>
              </a:rPr>
              <a:t>belova@leontief.spb.su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73bd"/>
                </a:solidFill>
                <a:latin typeface="Verdana"/>
              </a:rPr>
              <a:t>Что такое ИНТЕРРЕГ?</a:t>
            </a: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05280" indent="0" algn="just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Инициатива Европейского Союза, направленная на поддержку Европейской интеграции и усиление сотрудничества </a:t>
            </a:r>
            <a:r>
              <a:rPr b="1" lang="ru-RU" sz="2400" spc="-1" strike="noStrike">
                <a:solidFill>
                  <a:srgbClr val="0073bd"/>
                </a:solidFill>
                <a:latin typeface="Verdana"/>
              </a:rPr>
              <a:t>региональных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73bd"/>
                </a:solidFill>
                <a:latin typeface="Verdana"/>
              </a:rPr>
              <a:t>и местных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 органов власти:</a:t>
            </a:r>
            <a:endParaRPr b="0" lang="en-US" sz="2400" spc="-1" strike="noStrike">
              <a:solidFill>
                <a:srgbClr val="0073bd"/>
              </a:solidFill>
              <a:latin typeface="Verdana"/>
            </a:endParaRPr>
          </a:p>
          <a:p>
            <a:pPr lvl="2" marL="1017000" indent="-20340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0073bd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непосредственно на границах - ИНТЕРРЕГ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73bd"/>
              </a:solidFill>
              <a:latin typeface="Verdana"/>
            </a:endParaRPr>
          </a:p>
          <a:p>
            <a:pPr lvl="2" marL="1017000" indent="-20340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0073bd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в пределах крупных Европейских регионов - ИНТЕРРЕГ</a:t>
            </a:r>
            <a:r>
              <a:rPr b="0" lang="en-GB" sz="24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73bd"/>
              </a:solidFill>
              <a:latin typeface="Verdana"/>
            </a:endParaRPr>
          </a:p>
          <a:p>
            <a:pPr lvl="2" marL="1017000" indent="-20340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0073bd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по всей Европе – ИНТЕРРЕГ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73bd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73bd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b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73bd"/>
                </a:solidFill>
                <a:latin typeface="Verdana"/>
              </a:rPr>
              <a:t>Россия в программах ИНТЕРРЕГ</a:t>
            </a: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1360" indent="0" algn="just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     </a:t>
            </a: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6 Программ Соседства 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д</a:t>
            </a:r>
            <a:r>
              <a:rPr b="0" lang="en-US" sz="2000" spc="-1" strike="noStrike">
                <a:solidFill>
                  <a:srgbClr val="0073bd"/>
                </a:solidFill>
                <a:latin typeface="Verdana"/>
              </a:rPr>
              <a:t>ля границ ЕС и Северо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-З</a:t>
            </a:r>
            <a:r>
              <a:rPr b="0" lang="en-US" sz="2000" spc="-1" strike="noStrike">
                <a:solidFill>
                  <a:srgbClr val="0073bd"/>
                </a:solidFill>
                <a:latin typeface="Verdana"/>
              </a:rPr>
              <a:t>апада России 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разработаны</a:t>
            </a:r>
            <a:r>
              <a:rPr b="0" lang="en-US" sz="2000" spc="-1" strike="noStrike">
                <a:solidFill>
                  <a:srgbClr val="0073bd"/>
                </a:solidFill>
                <a:latin typeface="Verdana"/>
              </a:rPr>
              <a:t> на основе программ Интеррег и приграничного сотрудничества Тасис (ПГС Тасис)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:</a:t>
            </a:r>
            <a:r>
              <a:rPr b="0" lang="ru-RU" sz="1700" spc="-1" strike="noStrike">
                <a:solidFill>
                  <a:srgbClr val="0073bd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73bd"/>
              </a:solidFill>
              <a:latin typeface="Verdana"/>
            </a:endParaRPr>
          </a:p>
          <a:p>
            <a:pPr marL="441360" indent="0" algn="just">
              <a:lnSpc>
                <a:spcPts val="2486"/>
              </a:lnSpc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73bd"/>
              </a:solidFill>
              <a:latin typeface="Verdana"/>
            </a:endParaRPr>
          </a:p>
          <a:p>
            <a:pPr marL="441360" indent="0" algn="just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73bd"/>
              </a:solidFill>
              <a:latin typeface="Verdana"/>
            </a:endParaRPr>
          </a:p>
          <a:p>
            <a:pPr marL="441360" indent="0" algn="just">
              <a:lnSpc>
                <a:spcPct val="120000"/>
              </a:lnSpc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73bd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2057400"/>
          <a:ext cx="8839080" cy="4105440"/>
        </p:xfrm>
        <a:graphic>
          <a:graphicData uri="http://schemas.openxmlformats.org/drawingml/2006/table">
            <a:tbl>
              <a:tblPr/>
              <a:tblGrid>
                <a:gridCol w="5410080"/>
                <a:gridCol w="342900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ts val="2486"/>
                        </a:lnSpc>
                        <a:spcAft>
                          <a:spcPts val="12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Программы сос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9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     </a:t>
                      </a:r>
                      <a:r>
                        <a:rPr b="1" lang="ru-RU" sz="15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Индикативные бюджеты </a:t>
                      </a:r>
                      <a:br>
                        <a:rPr sz="1500"/>
                      </a:br>
                      <a:r>
                        <a:rPr b="1" lang="fr-BE" sz="15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2004-06, €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9f2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ts val="2486"/>
                        </a:lnSpc>
                        <a:spcAft>
                          <a:spcPts val="12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Регион Балтийского моря,</a:t>
                      </a:r>
                      <a:r>
                        <a:rPr b="1" lang="fr-BE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ИНТЕРРЕГ </a:t>
                      </a:r>
                      <a:r>
                        <a:rPr b="1" lang="fr-BE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III </a:t>
                      </a:r>
                      <a:r>
                        <a:rPr b="1" lang="fr-BE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ts val="2486"/>
                        </a:lnSpc>
                        <a:spcAft>
                          <a:spcPts val="12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ts val="2486"/>
                        </a:lnSpc>
                        <a:spcAft>
                          <a:spcPts val="12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Коларктик, ИНТЕРРЕГ </a:t>
                      </a:r>
                      <a:r>
                        <a:rPr b="1" lang="en-US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III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Сев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ts val="2486"/>
                        </a:lnSpc>
                        <a:spcAft>
                          <a:spcPts val="12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ts val="2486"/>
                        </a:lnSpc>
                        <a:spcAft>
                          <a:spcPts val="12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Карелия, ИНТЕРРЕГ </a:t>
                      </a:r>
                      <a:r>
                        <a:rPr b="1" lang="en-US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III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ts val="2486"/>
                        </a:lnSpc>
                        <a:spcAft>
                          <a:spcPts val="12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ts val="2486"/>
                        </a:lnSpc>
                        <a:spcAft>
                          <a:spcPts val="12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Юго-Восточная Финляндия</a:t>
                      </a:r>
                      <a:r>
                        <a:rPr b="1" lang="en-US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, </a:t>
                      </a:r>
                      <a:r>
                        <a:rPr b="1" lang="ru-RU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ИНТЕРРЕГ </a:t>
                      </a:r>
                      <a:r>
                        <a:rPr b="1" lang="en-US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III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ts val="2486"/>
                        </a:lnSpc>
                        <a:spcAft>
                          <a:spcPts val="12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ts val="2486"/>
                        </a:lnSpc>
                        <a:spcAft>
                          <a:spcPts val="12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Регион Балтийского моря</a:t>
                      </a:r>
                      <a:r>
                        <a:rPr b="1" lang="fr-BE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ИНТЕРРЕГ </a:t>
                      </a:r>
                      <a:r>
                        <a:rPr b="1" lang="fr-BE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III </a:t>
                      </a:r>
                      <a:r>
                        <a:rPr b="1" lang="fr-BE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ts val="2486"/>
                        </a:lnSpc>
                        <a:spcAft>
                          <a:spcPts val="1239"/>
                        </a:spcAft>
                        <a:buClr>
                          <a:srgbClr val="0073b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Эстония</a:t>
                      </a:r>
                      <a:r>
                        <a:rPr b="1" lang="fr-BE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 / </a:t>
                      </a:r>
                      <a:r>
                        <a:rPr b="1" lang="ru-RU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Латвия</a:t>
                      </a:r>
                      <a:r>
                        <a:rPr b="1" lang="fr-BE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 / </a:t>
                      </a:r>
                      <a:r>
                        <a:rPr b="1" lang="ru-RU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ts val="2486"/>
                        </a:lnSpc>
                        <a:spcAft>
                          <a:spcPts val="1239"/>
                        </a:spcAft>
                        <a:buClr>
                          <a:srgbClr val="0073bd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Латвия</a:t>
                      </a:r>
                      <a:r>
                        <a:rPr b="1" lang="fr-BE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/ </a:t>
                      </a:r>
                      <a:r>
                        <a:rPr b="1" lang="ru-RU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Литва</a:t>
                      </a:r>
                      <a:r>
                        <a:rPr b="1" lang="fr-BE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 / </a:t>
                      </a:r>
                      <a:r>
                        <a:rPr b="1" lang="ru-RU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Белар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ts val="2486"/>
                        </a:lnSpc>
                        <a:spcAft>
                          <a:spcPts val="12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ts val="2486"/>
                        </a:lnSpc>
                        <a:spcAft>
                          <a:spcPts val="12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Литва </a:t>
                      </a:r>
                      <a:r>
                        <a:rPr b="1" lang="fr-BE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/ </a:t>
                      </a:r>
                      <a:r>
                        <a:rPr b="1" lang="ru-RU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Польша</a:t>
                      </a:r>
                      <a:r>
                        <a:rPr b="1" lang="fr-BE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/ </a:t>
                      </a:r>
                      <a:r>
                        <a:rPr b="1" lang="ru-RU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Россия, ИНТЕРРЕГ </a:t>
                      </a:r>
                      <a:r>
                        <a:rPr b="1" lang="fr-BE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III </a:t>
                      </a:r>
                      <a:r>
                        <a:rPr b="1" lang="fr-BE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ts val="2486"/>
                        </a:lnSpc>
                        <a:spcAft>
                          <a:spcPts val="123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73bd"/>
                          </a:solidFill>
                          <a:latin typeface="Verdana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0920" y="259920"/>
            <a:ext cx="6324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78b4"/>
                </a:solidFill>
                <a:latin typeface="Verdana"/>
              </a:rPr>
              <a:t>BSR INTERREG III B NP</a:t>
            </a:r>
            <a:endParaRPr b="1" lang="en-US" sz="2100" spc="-1" strike="noStrike">
              <a:solidFill>
                <a:srgbClr val="0073bd"/>
              </a:solidFill>
              <a:latin typeface="Verdan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85800" y="1295280"/>
            <a:ext cx="7543800" cy="5396040"/>
            <a:chOff x="685800" y="1295280"/>
            <a:chExt cx="7543800" cy="5396040"/>
          </a:xfrm>
        </p:grpSpPr>
        <p:pic>
          <p:nvPicPr>
            <p:cNvPr id="10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295280"/>
              <a:ext cx="1164960" cy="13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09880" y="1295280"/>
              <a:ext cx="1165320" cy="13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2286000" y="3229920"/>
              <a:ext cx="1165320" cy="13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2286000" y="1295280"/>
              <a:ext cx="1165320" cy="13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5334120" y="1295280"/>
              <a:ext cx="1164960" cy="13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6858000" y="1295280"/>
              <a:ext cx="1165320" cy="13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762120" y="3229920"/>
              <a:ext cx="1164960" cy="13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15"/>
            <a:stretch/>
          </p:blipFill>
          <p:spPr>
            <a:xfrm>
              <a:off x="3809880" y="3229920"/>
              <a:ext cx="1165320" cy="13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6"/>
            <a:stretch/>
          </p:blipFill>
          <p:spPr>
            <a:xfrm>
              <a:off x="5334120" y="3229920"/>
              <a:ext cx="1164960" cy="13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17"/>
            <a:stretch/>
          </p:blipFill>
          <p:spPr>
            <a:xfrm>
              <a:off x="6858000" y="3229920"/>
              <a:ext cx="1165320" cy="13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18"/>
            <a:stretch/>
          </p:blipFill>
          <p:spPr>
            <a:xfrm>
              <a:off x="762120" y="4922640"/>
              <a:ext cx="1164960" cy="137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85800" y="266544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Verdana"/>
                </a:rPr>
                <a:t>Alpine Sp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2665440"/>
              <a:ext cx="144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Verdana"/>
                </a:rPr>
                <a:t>Baltic Sea Reg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81680" y="2665440"/>
              <a:ext cx="144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Verdana"/>
                </a:rPr>
                <a:t>North Sea Reg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09680" y="4600080"/>
              <a:ext cx="144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Verdana"/>
                </a:rPr>
                <a:t>Atlantic Are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33920" y="266544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Verdana"/>
                </a:rPr>
                <a:t>Archim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57800" y="4600080"/>
              <a:ext cx="144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Verdana"/>
                </a:rPr>
                <a:t>South West Euro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57800" y="2665440"/>
              <a:ext cx="144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Verdana"/>
                </a:rPr>
                <a:t>North West Euro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33920" y="4600080"/>
              <a:ext cx="1447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Verdana"/>
                </a:rPr>
                <a:t>Westers Mediterrane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800" y="4600080"/>
              <a:ext cx="144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Verdana"/>
                </a:rPr>
                <a:t>CADS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81680" y="4600080"/>
              <a:ext cx="144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Verdana"/>
                </a:rPr>
                <a:t>Northern Periph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6292800"/>
              <a:ext cx="1447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Verdana"/>
                </a:rPr>
                <a:t>Most remote region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Verdana"/>
                </a:rPr>
                <a:t>(3 programme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133720" y="1143000"/>
            <a:ext cx="1447560" cy="1752480"/>
          </a:xfrm>
          <a:prstGeom prst="rect">
            <a:avLst/>
          </a:prstGeom>
          <a:noFill/>
          <a:ln w="28440">
            <a:solidFill>
              <a:srgbClr val="e00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518148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8b4"/>
                </a:solidFill>
                <a:latin typeface="Verdana"/>
              </a:rPr>
              <a:t>Транснациональное сотрудничество по пространственному планированию и региональному развит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9"/>
          <a:stretch/>
        </p:blipFill>
        <p:spPr>
          <a:xfrm>
            <a:off x="2286000" y="1295280"/>
            <a:ext cx="1197000" cy="135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73bd"/>
                </a:solidFill>
                <a:latin typeface="Verdana"/>
              </a:rPr>
              <a:t>Программа Соседства региона Балтийского моря ИНТЕРРЕГ </a:t>
            </a:r>
            <a:r>
              <a:rPr b="1" lang="en-US" sz="2900" spc="-1" strike="noStrike">
                <a:solidFill>
                  <a:srgbClr val="0073bd"/>
                </a:solidFill>
                <a:latin typeface="Verdana"/>
              </a:rPr>
              <a:t>III B</a:t>
            </a:r>
            <a:r>
              <a:rPr b="1" lang="ru-RU" sz="2900" spc="-1" strike="noStrike">
                <a:solidFill>
                  <a:srgbClr val="0073bd"/>
                </a:solidFill>
                <a:latin typeface="Verdana"/>
              </a:rPr>
              <a:t> </a:t>
            </a:r>
            <a:endParaRPr b="1" lang="en-US" sz="29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1676520"/>
            <a:ext cx="8839440" cy="39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73bd"/>
                </a:solidFill>
                <a:latin typeface="Verdana"/>
              </a:rPr>
              <a:t>Цель Программы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73bd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73bd"/>
                </a:solidFill>
                <a:latin typeface="Verdana"/>
              </a:rPr>
              <a:t>достижение более высокого уровня</a:t>
            </a:r>
            <a:r>
              <a:rPr b="0" lang="en-US" sz="23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0" lang="ru-RU" sz="2300" spc="-1" strike="noStrike">
                <a:solidFill>
                  <a:srgbClr val="0073bd"/>
                </a:solidFill>
                <a:latin typeface="Verdana"/>
              </a:rPr>
              <a:t>пространственной интеграции и конкурентоспособности стран Балтийского региона за счет усиления регионального</a:t>
            </a:r>
            <a:r>
              <a:rPr b="0" lang="en-US" sz="23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0" lang="ru-RU" sz="2300" spc="-1" strike="noStrike">
                <a:solidFill>
                  <a:srgbClr val="0073bd"/>
                </a:solidFill>
                <a:latin typeface="Verdana"/>
              </a:rPr>
              <a:t>взаимодействия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73b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0" lang="ru-RU" sz="2300" spc="-1" strike="noStrike">
                <a:solidFill>
                  <a:srgbClr val="0073bd"/>
                </a:solidFill>
                <a:latin typeface="Verdana"/>
              </a:rPr>
              <a:t>Из Фонда </a:t>
            </a:r>
            <a:r>
              <a:rPr b="0" lang="en-US" sz="2300" spc="-1" strike="noStrike">
                <a:solidFill>
                  <a:srgbClr val="0073bd"/>
                </a:solidFill>
                <a:latin typeface="Verdana"/>
              </a:rPr>
              <a:t>TACIS</a:t>
            </a:r>
            <a:r>
              <a:rPr b="0" lang="ru-RU" sz="2300" spc="-1" strike="noStrike">
                <a:solidFill>
                  <a:srgbClr val="0073bd"/>
                </a:solidFill>
                <a:latin typeface="Verdana"/>
              </a:rPr>
              <a:t> на 2004-2006 выделено 7,5 млн. Евро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73b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0" lang="ru-RU" sz="2300" spc="-1" strike="noStrike">
                <a:solidFill>
                  <a:srgbClr val="0073bd"/>
                </a:solidFill>
                <a:latin typeface="Verdana"/>
              </a:rPr>
              <a:t>100 одобренных проектов на июнь 200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73b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0" lang="ru-RU" sz="2300" spc="-1" strike="noStrike">
                <a:solidFill>
                  <a:srgbClr val="0073bd"/>
                </a:solidFill>
                <a:latin typeface="Verdana"/>
              </a:rPr>
              <a:t>Широкий тематический спектр сотрудничества, при этом основные действия сфокусированы на трех тематических приоритетах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8380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3bd"/>
                </a:solidFill>
                <a:latin typeface="Verdana"/>
              </a:rPr>
              <a:t>Ареал сотрудниче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3bd"/>
                </a:solidFill>
                <a:latin typeface="Verdana"/>
              </a:rPr>
              <a:t>BSR INTERREG III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1657440"/>
            <a:ext cx="41907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3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Дания, Швеция, Финлянд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73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Германия</a:t>
            </a:r>
            <a:r>
              <a:rPr b="0" lang="en-GB" sz="20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73bd"/>
                </a:solidFill>
                <a:latin typeface="Verdana"/>
              </a:rPr>
              <a:t>(</a:t>
            </a:r>
            <a:r>
              <a:rPr b="0" lang="ru-RU" sz="1800" spc="-1" strike="noStrike">
                <a:solidFill>
                  <a:srgbClr val="0073bd"/>
                </a:solidFill>
                <a:latin typeface="Verdana"/>
              </a:rPr>
              <a:t>северо-восток</a:t>
            </a:r>
            <a:r>
              <a:rPr b="0" lang="en-GB" sz="1800" spc="-1" strike="noStrike">
                <a:solidFill>
                  <a:srgbClr val="0073bd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73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Эстония, Ли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73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Латвия, Польша, Норвег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73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Беларусь</a:t>
            </a:r>
            <a:r>
              <a:rPr b="0" lang="en-GB" sz="2000" spc="-1" strike="noStrike">
                <a:solidFill>
                  <a:srgbClr val="0073bd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3bd"/>
                </a:solidFill>
                <a:latin typeface="Verdana"/>
              </a:rPr>
              <a:t>Минская, Гродненская, Брестская, Витебская обла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73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Росс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3bd"/>
                </a:solidFill>
                <a:latin typeface="Verdana"/>
              </a:rPr>
              <a:t>С-Петербург, Мурманская, Ленинградская, Псковская, Новгородская, Калининградская, Архангельская области, Карельская республика, Ненецкий окру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92520" y="0"/>
            <a:ext cx="4551480" cy="6224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586480" y="4951440"/>
            <a:ext cx="199800" cy="210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11960" y="4111560"/>
            <a:ext cx="200160" cy="209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3200400"/>
            <a:ext cx="200160" cy="21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72400" y="4876920"/>
            <a:ext cx="200160" cy="21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48720" y="3809880"/>
            <a:ext cx="199800" cy="211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52480" y="76320"/>
            <a:ext cx="758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73bd"/>
                </a:solidFill>
                <a:latin typeface="Verdana"/>
              </a:rPr>
              <a:t>Программа Соседства региона Балтийского моря ИНТЕРРЕГ </a:t>
            </a:r>
            <a:r>
              <a:rPr b="1" lang="en-US" sz="2900" spc="-1" strike="noStrike">
                <a:solidFill>
                  <a:srgbClr val="0073bd"/>
                </a:solidFill>
                <a:latin typeface="Verdana"/>
              </a:rPr>
              <a:t>III B</a:t>
            </a:r>
            <a:r>
              <a:rPr b="1" lang="ru-RU" sz="2900" spc="-1" strike="noStrike">
                <a:solidFill>
                  <a:srgbClr val="0073bd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3416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383760" indent="0" algn="just">
              <a:lnSpc>
                <a:spcPts val="2486"/>
              </a:lnSpc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Программа финансируется из трех источников:</a:t>
            </a:r>
            <a:endParaRPr b="0" lang="en-US" sz="2400" spc="-1" strike="noStrike">
              <a:solidFill>
                <a:srgbClr val="0073bd"/>
              </a:solidFill>
              <a:latin typeface="Verdana"/>
            </a:endParaRPr>
          </a:p>
          <a:p>
            <a:pPr marL="383760" indent="-383760" algn="just">
              <a:lnSpc>
                <a:spcPts val="2486"/>
              </a:lnSpc>
              <a:spcAft>
                <a:spcPts val="1239"/>
              </a:spcAft>
              <a:buClr>
                <a:srgbClr val="0073b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3bd"/>
                </a:solidFill>
                <a:latin typeface="Verdana"/>
              </a:rPr>
              <a:t>Европейский Фонд Регионального Развития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 – ЕФРР (для партнеров из ЕС), </a:t>
            </a:r>
            <a:r>
              <a:rPr b="1" lang="en-GB" sz="2400" spc="-1" strike="noStrike">
                <a:solidFill>
                  <a:srgbClr val="0073bd"/>
                </a:solidFill>
                <a:latin typeface="Verdana"/>
              </a:rPr>
              <a:t>149</a:t>
            </a:r>
            <a:r>
              <a:rPr b="0" lang="en-GB" sz="24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миллионов евро, </a:t>
            </a:r>
            <a:r>
              <a:rPr b="0" lang="en-GB" sz="2400" spc="-1" strike="noStrike">
                <a:solidFill>
                  <a:srgbClr val="0073bd"/>
                </a:solidFill>
                <a:latin typeface="Verdana"/>
              </a:rPr>
              <a:t>2000-2006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 гг.</a:t>
            </a:r>
            <a:endParaRPr b="0" lang="en-US" sz="2400" spc="-1" strike="noStrike">
              <a:solidFill>
                <a:srgbClr val="0073bd"/>
              </a:solidFill>
              <a:latin typeface="Verdana"/>
            </a:endParaRPr>
          </a:p>
          <a:p>
            <a:pPr marL="383760" indent="-383760" algn="just">
              <a:lnSpc>
                <a:spcPts val="2486"/>
              </a:lnSpc>
              <a:spcAft>
                <a:spcPts val="1239"/>
              </a:spcAft>
              <a:buClr>
                <a:srgbClr val="0073b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3bd"/>
                </a:solidFill>
                <a:latin typeface="Verdana"/>
              </a:rPr>
              <a:t>Тасис</a:t>
            </a:r>
            <a:r>
              <a:rPr b="1" lang="en-US" sz="2400" spc="-1" strike="noStrike">
                <a:solidFill>
                  <a:srgbClr val="0073bd"/>
                </a:solidFill>
                <a:latin typeface="Verdana"/>
              </a:rPr>
              <a:t> -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 Регион Балтийского моря</a:t>
            </a:r>
            <a:r>
              <a:rPr b="0" lang="fr-BE" sz="24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ИНТЕРРЕГ </a:t>
            </a:r>
            <a:r>
              <a:rPr b="0" lang="fr-BE" sz="2400" spc="-1" strike="noStrike">
                <a:solidFill>
                  <a:srgbClr val="0073bd"/>
                </a:solidFill>
                <a:latin typeface="Verdana"/>
              </a:rPr>
              <a:t>III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1" lang="ru-RU" sz="24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(для партнеров из России и Беларуси), </a:t>
            </a:r>
            <a:r>
              <a:rPr b="1" lang="ru-RU" sz="2400" spc="-1" strike="noStrike">
                <a:solidFill>
                  <a:srgbClr val="0073bd"/>
                </a:solidFill>
                <a:latin typeface="Verdana"/>
              </a:rPr>
              <a:t>7,5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 миллионов евро, </a:t>
            </a:r>
            <a:r>
              <a:rPr b="0" lang="de-DE" sz="2400" spc="-1" strike="noStrike">
                <a:solidFill>
                  <a:srgbClr val="0073bd"/>
                </a:solidFill>
                <a:latin typeface="Verdana"/>
              </a:rPr>
              <a:t>2004-2006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 гг.</a:t>
            </a:r>
            <a:r>
              <a:rPr b="1" lang="lv-LV" sz="2400" spc="-1" strike="noStrike">
                <a:solidFill>
                  <a:srgbClr val="0073bd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73bd"/>
              </a:solidFill>
              <a:latin typeface="Verdana"/>
            </a:endParaRPr>
          </a:p>
          <a:p>
            <a:pPr marL="383760" indent="-383760" algn="just">
              <a:lnSpc>
                <a:spcPts val="2486"/>
              </a:lnSpc>
              <a:spcAft>
                <a:spcPts val="1239"/>
              </a:spcAft>
              <a:buClr>
                <a:srgbClr val="0073b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3bd"/>
                </a:solidFill>
                <a:latin typeface="Verdana"/>
              </a:rPr>
              <a:t>Тасис</a:t>
            </a:r>
            <a:r>
              <a:rPr b="1" lang="en-US" sz="2400" spc="-1" strike="noStrike">
                <a:solidFill>
                  <a:srgbClr val="0073bd"/>
                </a:solidFill>
                <a:latin typeface="Verdana"/>
              </a:rPr>
              <a:t> -</a:t>
            </a:r>
            <a:r>
              <a:rPr b="1" lang="ru-RU" sz="24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Регион Балтийского моря</a:t>
            </a:r>
            <a:r>
              <a:rPr b="0" lang="fr-BE" sz="24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ИНТЕРРЕГ </a:t>
            </a:r>
            <a:r>
              <a:rPr b="0" lang="fr-BE" sz="2400" spc="-1" strike="noStrike">
                <a:solidFill>
                  <a:srgbClr val="0073bd"/>
                </a:solidFill>
                <a:latin typeface="Verdana"/>
              </a:rPr>
              <a:t>III </a:t>
            </a:r>
            <a:r>
              <a:rPr b="0" lang="fr-BE" sz="2400" spc="-1" strike="noStrike">
                <a:solidFill>
                  <a:srgbClr val="ff0000"/>
                </a:solidFill>
                <a:latin typeface="Verdana"/>
              </a:rPr>
              <a:t>A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,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(для партнеров из России и Беларуси), </a:t>
            </a:r>
            <a:r>
              <a:rPr b="1" lang="ru-RU" sz="2400" spc="-1" strike="noStrike">
                <a:solidFill>
                  <a:srgbClr val="0073bd"/>
                </a:solidFill>
                <a:latin typeface="Verdana"/>
              </a:rPr>
              <a:t>7,5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 миллионов евро , </a:t>
            </a:r>
            <a:r>
              <a:rPr b="0" lang="de-DE" sz="2400" spc="-1" strike="noStrike">
                <a:solidFill>
                  <a:srgbClr val="0073bd"/>
                </a:solidFill>
                <a:latin typeface="Verdana"/>
              </a:rPr>
              <a:t>2004-2006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 гг.</a:t>
            </a:r>
            <a:r>
              <a:rPr b="1" lang="lv-LV" sz="2400" spc="-1" strike="noStrike">
                <a:solidFill>
                  <a:srgbClr val="0073bd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73bd"/>
              </a:solidFill>
              <a:latin typeface="Verdana"/>
            </a:endParaRPr>
          </a:p>
          <a:p>
            <a:pPr marL="383760" indent="-383760" algn="just">
              <a:lnSpc>
                <a:spcPts val="2486"/>
              </a:lnSpc>
              <a:spcAft>
                <a:spcPts val="1239"/>
              </a:spcAft>
              <a:buClr>
                <a:srgbClr val="0073b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Норвежское национальное финансирование, </a:t>
            </a:r>
            <a:r>
              <a:rPr b="1" lang="ru-RU" sz="2400" spc="-1" strike="noStrike">
                <a:solidFill>
                  <a:srgbClr val="0073bd"/>
                </a:solidFill>
                <a:latin typeface="Verdana"/>
              </a:rPr>
              <a:t>6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 миллионов евро</a:t>
            </a:r>
            <a:r>
              <a:rPr b="0" lang="en-US" sz="2400" spc="-1" strike="noStrike">
                <a:solidFill>
                  <a:srgbClr val="0073bd"/>
                </a:solidFill>
                <a:latin typeface="Verdana"/>
              </a:rPr>
              <a:t>, 2000-2006</a:t>
            </a:r>
            <a:r>
              <a:rPr b="0" lang="ru-RU" sz="2400" spc="-1" strike="noStrike">
                <a:solidFill>
                  <a:srgbClr val="0073bd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374400" y="1143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3bd"/>
                </a:solidFill>
                <a:latin typeface="Verdana"/>
              </a:rPr>
              <a:t>Источники финанс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1581120"/>
            <a:ext cx="883944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Приоритет</a:t>
            </a:r>
            <a:r>
              <a:rPr b="1" lang="en-GB" sz="2000" spc="-1" strike="noStrike">
                <a:solidFill>
                  <a:srgbClr val="0073bd"/>
                </a:solidFill>
                <a:latin typeface="Verdana"/>
              </a:rPr>
              <a:t> 1 – 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Разработка и распространение стратегий пространственного развития для особых территорий и сектор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Приоритет</a:t>
            </a:r>
            <a:r>
              <a:rPr b="1" lang="en-GB" sz="2000" spc="-1" strike="noStrike">
                <a:solidFill>
                  <a:srgbClr val="0073bd"/>
                </a:solidFill>
                <a:latin typeface="Verdana"/>
              </a:rPr>
              <a:t> 2 – 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Содействие развитию территориальных структур, поддерживающих устойчивое развитие и интеграцию в Регионе Балтийского Мор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Приоритет</a:t>
            </a:r>
            <a:r>
              <a:rPr b="1" lang="en-GB" sz="2000" spc="-1" strike="noStrike">
                <a:solidFill>
                  <a:srgbClr val="0073bd"/>
                </a:solidFill>
                <a:latin typeface="Verdana"/>
              </a:rPr>
              <a:t> 3 - 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Транснациональное и двустороннее развитие институционального потенциала в Регионе Балтийского Моря.</a:t>
            </a: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Приоритет</a:t>
            </a:r>
            <a:r>
              <a:rPr b="1" lang="en-GB" sz="2000" spc="-1" strike="noStrike">
                <a:solidFill>
                  <a:srgbClr val="0073bd"/>
                </a:solidFill>
                <a:latin typeface="Verdana"/>
              </a:rPr>
              <a:t> 4 - 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Приграничные регионы (отбор проектных предложений не ведетс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Приоритет 5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 –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Приграничная программа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NTERREG IIIA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Эстония-Латвия-Россия (Север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Приоритет</a:t>
            </a:r>
            <a:r>
              <a:rPr b="1" lang="en-GB" sz="2000" spc="-1" strike="noStrike">
                <a:solidFill>
                  <a:srgbClr val="0073bd"/>
                </a:solidFill>
                <a:latin typeface="Verdana"/>
              </a:rPr>
              <a:t> 6 – 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Приграничная программа </a:t>
            </a:r>
            <a:r>
              <a:rPr b="0" lang="en-US" sz="2000" spc="-1" strike="noStrike">
                <a:solidFill>
                  <a:srgbClr val="0073bd"/>
                </a:solidFill>
                <a:latin typeface="Verdana"/>
              </a:rPr>
              <a:t>INTERREG IIIA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 Латвия-Литва-Беларусь (Юг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3bd"/>
                </a:solidFill>
                <a:latin typeface="Verdana"/>
              </a:rPr>
              <a:t>Приоритет</a:t>
            </a:r>
            <a:r>
              <a:rPr b="1" lang="en-GB" sz="2000" spc="-1" strike="noStrike">
                <a:solidFill>
                  <a:srgbClr val="0073bd"/>
                </a:solidFill>
                <a:latin typeface="Verdana"/>
              </a:rPr>
              <a:t> 7 - </a:t>
            </a:r>
            <a:r>
              <a:rPr b="0" lang="ru-RU" sz="2000" spc="-1" strike="noStrike">
                <a:solidFill>
                  <a:srgbClr val="0073bd"/>
                </a:solidFill>
                <a:latin typeface="Verdana"/>
              </a:rPr>
              <a:t>Техническая помощ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3356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73bd"/>
                </a:solidFill>
                <a:latin typeface="Verdana"/>
              </a:rPr>
              <a:t> </a:t>
            </a:r>
            <a:endParaRPr b="1" lang="en-US" sz="15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152280"/>
            <a:ext cx="758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73bd"/>
                </a:solidFill>
                <a:latin typeface="Verdana"/>
              </a:rPr>
              <a:t>Программа Соседства региона Балтийского моря ИНТЕРРЕГ </a:t>
            </a:r>
            <a:r>
              <a:rPr b="1" lang="en-US" sz="2900" spc="-1" strike="noStrike">
                <a:solidFill>
                  <a:srgbClr val="0073bd"/>
                </a:solidFill>
                <a:latin typeface="Verdana"/>
              </a:rPr>
              <a:t>III B</a:t>
            </a:r>
            <a:r>
              <a:rPr b="1" lang="ru-RU" sz="2900" spc="-1" strike="noStrike">
                <a:solidFill>
                  <a:srgbClr val="0073bd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6720" y="114300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3bd"/>
                </a:solidFill>
                <a:latin typeface="Verdana"/>
              </a:rPr>
              <a:t>Приорит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1695240"/>
            <a:ext cx="758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73bd"/>
                </a:solidFill>
                <a:latin typeface="Verdana"/>
              </a:rPr>
              <a:t> </a:t>
            </a:r>
            <a:endParaRPr b="1" lang="en-US" sz="1500" spc="-1" strike="noStrike">
              <a:solidFill>
                <a:srgbClr val="0073bd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309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3bd"/>
                </a:solidFill>
                <a:latin typeface="Verdana"/>
              </a:rPr>
              <a:t>Результаты последнего 8-ого раунда подачи заявок </a:t>
            </a:r>
            <a:r>
              <a:rPr b="1" lang="ru-RU" sz="1300" spc="-1" strike="noStrike">
                <a:solidFill>
                  <a:srgbClr val="0073bd"/>
                </a:solidFill>
                <a:latin typeface="Verdana"/>
              </a:rPr>
              <a:t>(25.07-23.09.2005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1752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7468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3bd"/>
                </a:solidFill>
                <a:latin typeface="Verdana"/>
              </a:rPr>
              <a:t>Подано </a:t>
            </a:r>
            <a:r>
              <a:rPr b="0" lang="en-GB" sz="1800" spc="-1" strike="noStrike">
                <a:solidFill>
                  <a:srgbClr val="0073bd"/>
                </a:solidFill>
                <a:latin typeface="Verdana"/>
              </a:rPr>
              <a:t>64 </a:t>
            </a:r>
            <a:r>
              <a:rPr b="0" lang="ru-RU" sz="1800" spc="-1" strike="noStrike">
                <a:solidFill>
                  <a:srgbClr val="0073bd"/>
                </a:solidFill>
                <a:latin typeface="Verdana"/>
              </a:rPr>
              <a:t>проектных предложения, из которых</a:t>
            </a:r>
            <a:r>
              <a:rPr b="0" lang="en-GB" sz="1800" spc="-1" strike="noStrike">
                <a:solidFill>
                  <a:srgbClr val="0073bd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7468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0073b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3bd"/>
                </a:solidFill>
                <a:latin typeface="Verdana"/>
              </a:rPr>
              <a:t>4</a:t>
            </a:r>
            <a:r>
              <a:rPr b="0" lang="lv-LV" sz="1800" spc="-1" strike="noStrike">
                <a:solidFill>
                  <a:srgbClr val="0073bd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0073bd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73bd"/>
                </a:solidFill>
                <a:latin typeface="Verdana"/>
              </a:rPr>
              <a:t>проекта подали заявку на финансирование Таси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3095640"/>
          <a:ext cx="6553080" cy="35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95640"/>
                    <a:ext cx="6553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-152280" y="283356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3bd"/>
                </a:solidFill>
                <a:latin typeface="Verdana"/>
              </a:rPr>
              <a:t>Распределение партнеров по странам в проектах 8-ого раун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228600"/>
            <a:ext cx="758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73bd"/>
                </a:solidFill>
                <a:latin typeface="Verdana"/>
              </a:rPr>
              <a:t>Программа Соседства региона Балтийского моря ИНТЕРРЕГ </a:t>
            </a:r>
            <a:r>
              <a:rPr b="1" lang="en-US" sz="2900" spc="-1" strike="noStrike">
                <a:solidFill>
                  <a:srgbClr val="0073bd"/>
                </a:solidFill>
                <a:latin typeface="Verdana"/>
              </a:rPr>
              <a:t>III </a:t>
            </a:r>
            <a:r>
              <a:rPr b="1" lang="en-US" sz="29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1" lang="ru-RU" sz="2900" spc="-1" strike="noStrike">
                <a:solidFill>
                  <a:srgbClr val="0073bd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9:16:44Z</dcterms:created>
  <dc:creator>Matthias </dc:creator>
  <dc:description/>
  <dc:language>en-US</dc:language>
  <cp:lastModifiedBy>Belova</cp:lastModifiedBy>
  <dcterms:modified xsi:type="dcterms:W3CDTF">2006-06-26T09:38:29Z</dcterms:modified>
  <cp:revision>685</cp:revision>
  <dc:subject/>
  <dc:title>Slide 1</dc:title>
</cp:coreProperties>
</file>