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664325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316B-D918-493E-8D5B-A00B80D0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5943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6933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18960" y="4166640"/>
            <a:ext cx="6933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E90B-739A-42AC-9235-1277C7ED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5943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3383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2160" y="2057400"/>
            <a:ext cx="3383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8960" y="4166640"/>
            <a:ext cx="3383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2160" y="4166640"/>
            <a:ext cx="3383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6BDF-7A68-461B-A62E-4AF8F968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5943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223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63280" y="2057400"/>
            <a:ext cx="223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07600" y="2057400"/>
            <a:ext cx="223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18960" y="4166640"/>
            <a:ext cx="223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63280" y="4166640"/>
            <a:ext cx="223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07600" y="4166640"/>
            <a:ext cx="223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A42F-2A0B-4848-AA91-34FA2322C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5943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18960" y="2057400"/>
            <a:ext cx="693396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892F-B7EA-4C6F-ADB2-88F19AB3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5943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6933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3296-D3B5-4E7B-9581-F189E7CB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5943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3383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2160" y="2057400"/>
            <a:ext cx="3383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7423-2A70-4862-94E8-FD8956A4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5943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320F-0ECF-44C4-AC95-4979DD45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5280" y="456840"/>
            <a:ext cx="5943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CB0C-3B42-4D78-AA71-D5145A46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5943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3383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2160" y="2057400"/>
            <a:ext cx="3383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18960" y="4166640"/>
            <a:ext cx="3383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8650-7064-466E-A8F3-01B30739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5943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3383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2160" y="2057400"/>
            <a:ext cx="3383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2160" y="4166640"/>
            <a:ext cx="3383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CA03-AB3F-410A-B208-92803433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5943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3383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2160" y="2057400"/>
            <a:ext cx="3383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18960" y="4166640"/>
            <a:ext cx="6933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10A6-92DF-4EE3-9497-0B16DE7E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5943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2057400"/>
            <a:ext cx="6933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90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6AE3-78C7-46FD-81E8-2DE8B60AEFEF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" cy="6858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52280" y="6324480"/>
            <a:ext cx="495360" cy="330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0"/>
            <a:ext cx="914400" cy="6858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5943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урманская область в программах международного сотрудничества –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ерспективы и возможности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6933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реславец Елена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главный специалист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тдела внешнеэкономических и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ежрегиональных связей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партамента экономического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звития Мурманской области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27 июня 2006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г.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A9689-696F-415C-992D-5DEC96BFA1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0080" y="525240"/>
            <a:ext cx="467856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роекты, одобренные к финансированию </a:t>
            </a:r>
            <a:r>
              <a:rPr b="1" lang="fi-FI" sz="2400" spc="-1" strike="noStrike">
                <a:solidFill>
                  <a:srgbClr val="ff3300"/>
                </a:solidFill>
                <a:latin typeface="Arial"/>
              </a:rPr>
              <a:t>14.12.05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г., 06.04.06 г., 21.06.06г.</a:t>
            </a:r>
            <a:r>
              <a:rPr b="1" lang="fi-FI" sz="32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7280" y="1844280"/>
            <a:ext cx="69343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Лапкола </a:t>
            </a:r>
            <a:r>
              <a:rPr b="1" lang="fi-FI" sz="1600" spc="-1" strike="noStrike">
                <a:solidFill>
                  <a:srgbClr val="ff3300"/>
                </a:solidFill>
                <a:latin typeface="Arial"/>
              </a:rPr>
              <a:t>II (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Развитие трансграничного туризма между Лапландией и югом Кольского полуострова)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Безопасность бизнеса  в России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-3060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Развитие экологического туризма в районе Инари-Пасвик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-3060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Вызовы благосостояния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-3060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Снегоходная трасса Салла-Алакуртти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-3060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Развитие природного туризма в районе Кутсы и Саллатунтури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-3060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Логистическое развитие  Баренцева транспортного коридора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-3060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Встреча партнеров 2006-2007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-3060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Учебная программа «Повышение психосоциального благополучия в помощь школьному воспитанию»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-3060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Совершенствование транспортного движения через пограничные пункты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-3060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Российский раздел выставки «Направление Север Европы»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-3060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Природа Северного Калотта и Северо-Запада России –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DVD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и инфопакет в интернете для туристов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-3060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…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...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Логистическое развитие Баренцева транспортного корридора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ff"/>
              </a:solidFill>
              <a:latin typeface="Arial"/>
            </a:endParaRPr>
          </a:p>
          <a:p>
            <a:pPr marL="30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AC8C51-70E3-4939-A9EA-B533681689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Срок подачи заявок – 30 июня 2006 года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Максимальное финансирование – 160000 Евро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Участники программы – муниципальные образования, ассоциации муниципалитетов.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иоритеты: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Управление твердыми бытовыми отходами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одосбережение, очистка сточных вод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онтроль загрязнения атмосферного воздуха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Энергосбережение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Доступ к экологической информации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www.tcas.rec.org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1295280" y="456840"/>
            <a:ext cx="5943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ограмма финансирования экологических проектов для приграничных муниципалитетов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CAS)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35280" y="54936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53342-2FD5-49EB-BE22-674C485BD6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5943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граммы, охватывающие Мурманскую область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6933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ограмма сотрудничества ЕС и России (Тасис, Интеррег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IIA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Север, Соседство Коларктик, Интеррег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IIIB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Балтийское море)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ежправительственная рабочая группа по развитию сотрудничества Мурманской области с сопредельными регионами Финляндии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вусторонние соглашения о сотрудничестве с регионами соседствующих стран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отрудничество в рамках БЕАР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отрудничество в рамках программы действий Северного измерения и экологического партнерства СИ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965C85-AD5A-4DDE-9966-C7451616C2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2362320"/>
            <a:ext cx="792504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рограмма соседства Коларкти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6095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ff"/>
                </a:solidFill>
                <a:latin typeface="Arial"/>
              </a:rPr>
              <a:t>www.interregnord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67480" y="0"/>
            <a:ext cx="1676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0"/>
            <a:ext cx="335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8120" y="457200"/>
            <a:ext cx="3276360" cy="1735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90720" y="152280"/>
            <a:ext cx="1828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Мурманс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27.06</a:t>
            </a:r>
            <a:r>
              <a:rPr b="1" lang="fi-FI" sz="1600" spc="-1" strike="noStrike">
                <a:solidFill>
                  <a:srgbClr val="0000ff"/>
                </a:solidFill>
                <a:latin typeface="Arial"/>
              </a:rPr>
              <a:t>.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B3E51D-8F3D-4235-BE43-F82B02404D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18960" y="3809880"/>
            <a:ext cx="7118280" cy="38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218960" y="685800"/>
            <a:ext cx="3886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35280" y="54936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49440" y="793800"/>
            <a:ext cx="6477120" cy="5702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19280" y="549360"/>
            <a:ext cx="342720" cy="228600"/>
          </a:xfrm>
          <a:prstGeom prst="rect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19280" y="1052640"/>
            <a:ext cx="342720" cy="228600"/>
          </a:xfrm>
          <a:prstGeom prst="rect">
            <a:avLst/>
          </a:prstGeom>
          <a:solidFill>
            <a:srgbClr val="66ff99"/>
          </a:solidFill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75200" y="105264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определьные регио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40464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гион действия программы соседства Коларкт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DC36D-CC96-4059-B3F9-A821A89D11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рограмма Соседства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fi-FI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Коларктик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единый программный документ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Финляндия</a:t>
            </a:r>
            <a:r>
              <a:rPr b="1" lang="fi-FI" sz="18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Швеция</a:t>
            </a:r>
            <a:r>
              <a:rPr b="1" lang="fi-FI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lang="fi-FI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Россия -</a:t>
            </a:r>
            <a:r>
              <a:rPr b="1" lang="fi-FI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равноправные </a:t>
            </a:r>
            <a:r>
              <a:rPr b="1" lang="fi-FI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тороны сотрудничества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одержит финансирование Интеррег и ТАСИС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одготовка единой заявки для двух финансовых инструментов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заявки на одном из официальных языков территории реализации программы и на английском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 Мурманске открыт филиал секретариата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12ED08-F6AE-47DB-9995-BF85F7748B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3.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едпринимательское сотрудничество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3.1.  Производственное сотрудничество и сети сотрудничества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3.2. Повышение компетенции на предприятии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4. Компетенция и благосостояние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837720" y="3049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правления деятельности и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комплексы мероприятий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20920" y="3670200"/>
            <a:ext cx="7334280" cy="26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4.1 Образ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4.2. Исследования и разработ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4.3. Культура и благосостоя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5. Внутренняя деятельность регион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5.1. Инфраструктура и 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5.2. Информационные технологии и передача информ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E962B7-C407-40CA-969F-2E8CC95F00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668240" y="2057400"/>
            <a:ext cx="603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Доля собственного финансирования российской стороны сотрудничества / заявителя и российских партнеров составляет </a:t>
            </a:r>
            <a:r>
              <a:rPr b="1" lang="fi-FI" sz="2000" spc="-1" strike="noStrike">
                <a:solidFill>
                  <a:srgbClr val="ff3300"/>
                </a:solidFill>
                <a:latin typeface="Arial"/>
              </a:rPr>
              <a:t>5-25%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 зависимости от размера проекта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fi-FI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fi-FI" sz="2000" spc="-1" strike="noStrike">
                <a:solidFill>
                  <a:srgbClr val="ff3300"/>
                </a:solidFill>
                <a:latin typeface="Arial"/>
              </a:rPr>
              <a:t>&lt;50 000€ </a:t>
            </a:r>
            <a:r>
              <a:rPr b="1" lang="fi-FI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fi-FI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fi-FI" sz="2000" spc="-1" strike="noStrike">
                <a:solidFill>
                  <a:srgbClr val="ff3300"/>
                </a:solidFill>
                <a:latin typeface="Arial"/>
              </a:rPr>
              <a:t> 5%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т.е. 2500</a:t>
            </a:r>
            <a:r>
              <a:rPr b="1" lang="fi-FI" sz="2000" spc="-1" strike="noStrike">
                <a:solidFill>
                  <a:srgbClr val="ff3300"/>
                </a:solidFill>
                <a:latin typeface="Arial"/>
              </a:rPr>
              <a:t>€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fi-FI" sz="2000" spc="-1" strike="noStrike">
                <a:solidFill>
                  <a:srgbClr val="ff3300"/>
                </a:solidFill>
                <a:latin typeface="Arial"/>
              </a:rPr>
              <a:t>50 000 –300 000€ </a:t>
            </a:r>
            <a:r>
              <a:rPr b="1" lang="fi-FI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fi-FI" sz="2000" spc="-1" strike="noStrike">
                <a:solidFill>
                  <a:srgbClr val="ff3300"/>
                </a:solidFill>
                <a:latin typeface="Arial"/>
              </a:rPr>
              <a:t>10%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т.е. 5000-30000 </a:t>
            </a:r>
            <a:r>
              <a:rPr b="1" lang="fi-FI" sz="2000" spc="-1" strike="noStrike">
                <a:solidFill>
                  <a:srgbClr val="ff3300"/>
                </a:solidFill>
                <a:latin typeface="Arial"/>
              </a:rPr>
              <a:t>€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fi-FI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fi-FI" sz="2000" spc="-1" strike="noStrike">
                <a:solidFill>
                  <a:srgbClr val="ff3300"/>
                </a:solidFill>
                <a:latin typeface="Arial"/>
              </a:rPr>
              <a:t>&gt;300 000€</a:t>
            </a:r>
            <a:r>
              <a:rPr b="1" lang="fi-FI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fi-FI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fi-FI" sz="2000" spc="-1" strike="noStrike">
                <a:solidFill>
                  <a:srgbClr val="ff3300"/>
                </a:solidFill>
                <a:latin typeface="Arial"/>
              </a:rPr>
              <a:t>25%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т.е. 75000 </a:t>
            </a:r>
            <a:r>
              <a:rPr b="1" lang="fi-FI" sz="2000" spc="-1" strike="noStrike">
                <a:solidFill>
                  <a:srgbClr val="ff3300"/>
                </a:solidFill>
                <a:latin typeface="Arial"/>
              </a:rPr>
              <a:t>€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238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сновные вопросы Программы Соседства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9E3E93-BF4C-4452-B2A4-74CA272D72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4720" y="488880"/>
            <a:ext cx="50641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Кто в России может запрашивать финансирование ЕС?</a:t>
            </a:r>
            <a:br>
              <a:rPr sz="2800"/>
            </a:b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федеральные, региональные и местные</a:t>
            </a:r>
            <a:r>
              <a:rPr b="1" lang="fi-FI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рганы власти, муниципалитеты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университеты, научно-исследовательские учреждения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офсоюзы</a:t>
            </a:r>
            <a:r>
              <a:rPr b="1" lang="fi-FI" sz="2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орговые палаты</a:t>
            </a:r>
            <a:r>
              <a:rPr b="1" lang="fi-FI" sz="2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некоммерческие и гражданские организации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0038C-B2B9-4AAA-99CC-B0AD1F9CCB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5943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роки подачи заявок</a:t>
            </a:r>
            <a:r>
              <a:rPr b="1" lang="fi-FI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34920" y="2276640"/>
            <a:ext cx="6933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ff"/>
                </a:solidFill>
                <a:latin typeface="Arial"/>
              </a:rPr>
              <a:t>1.8.-3.10.2005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26</a:t>
            </a:r>
            <a:r>
              <a:rPr b="1" lang="fi-FI" sz="2800" spc="-1" strike="noStrike">
                <a:solidFill>
                  <a:srgbClr val="0000ff"/>
                </a:solidFill>
                <a:latin typeface="Arial"/>
              </a:rPr>
              <a:t>.1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fi-FI" sz="2800" spc="-1" strike="noStrike">
                <a:solidFill>
                  <a:srgbClr val="0000ff"/>
                </a:solidFill>
                <a:latin typeface="Arial"/>
              </a:rPr>
              <a:t>. 2005-2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fi-FI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fi-FI" sz="2800" spc="-1" strike="noStrike">
                <a:solidFill>
                  <a:srgbClr val="0000ff"/>
                </a:solidFill>
                <a:latin typeface="Arial"/>
              </a:rPr>
              <a:t>.2006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13.2.-10.4.2006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ff"/>
                </a:solidFill>
                <a:latin typeface="Arial"/>
              </a:rPr>
              <a:t>26.6.-25.9.2006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7280C1-08AC-4A7B-8F3A-505109CA18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09:44:17Z</dcterms:created>
  <dc:creator>marjaana</dc:creator>
  <dc:description/>
  <dc:language>en-US</dc:language>
  <cp:lastModifiedBy>Бреславец Елена Викторовна</cp:lastModifiedBy>
  <dcterms:modified xsi:type="dcterms:W3CDTF">2006-06-27T09:39:58Z</dcterms:modified>
  <cp:revision>138</cp:revision>
  <dc:subject/>
  <dc:title>PowerPoint-esitys</dc:title>
</cp:coreProperties>
</file>