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CCB-DF72-4FC4-93C5-1E6F880C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62C-6987-43DC-8C0C-360E8868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E46-A171-4E0F-8AF0-2C7026DB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D1C-A9B1-4CDD-8831-4D15C34E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2C0-5947-40C2-AFF7-7B107042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248-0C22-4F9D-90DA-333BD2F5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275-FE3E-4559-A9A8-35757CDF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2F3-8478-46C1-A0B6-71D3D892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C6C-C82C-4B7A-B899-119EAEAD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19B-9111-4159-9FBF-9D508E81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1EF-8CA8-4AC8-BF2C-7BB469C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752-2A41-4C8B-803C-BA85F0D4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D054-7D55-4316-AC22-FC057B5C5D9D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8BD1-467F-4007-A07E-768318869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15920"/>
            <a:ext cx="7848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85800" cy="90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573408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Борисенко О.К. консультант департамента эконом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6264360" cy="405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зработка стратегий международного сотрудничества и стратегический подход: как модель поддержки МСБ может быть реализована в регио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DEA4A-1E3E-47F4-9CFC-975BB714EA57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рганизационно-правовое обеспечение эффективной  предпринимательской 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ация пред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ртификация и лиценз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ренда поме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еме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логооб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вест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58DF6-72F7-423C-B9B3-056867588970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продвижению товаров и услуг субъектов малого предприниматель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формирование благоприятного общественного м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жегодно проводятся «Дни предпринимательства Мурманской области» и конкурс «Предприниматель г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международных, межрегиональных, региональных и муниципальных выста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коллективного стенда Мурманской области для участия в выставках за границами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ие МП в конкурсах товаропроизв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24225-5C92-4553-9F2C-DAA3871258B4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инновационной инфраструктуры и  информационное обеспечение предпринимательской деятель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НП «Технопарк-Апати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Центра трансфера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бизнес-инкубаторов, субконтрактинговых и маркетинговых цен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нформационно-аналитических систем о малом бизне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нформационных цен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дание каталогов, сборников, брошю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5770D-68B0-423B-BDFE-5F8CA6A739F8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шение социальных задач, в том числе  социальная защита предпринимателей и наемных работников, сокращение бедности и безработиц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ые гарантии для предпринимателей и наемных рабо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желающих начать свое дело через региональную сеть Бизнес-цен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роектное консультирование начинающих предпринимателей, в том числе из числа незащищенных слое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истемы микрокредит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F9FCC-8DD6-4AAC-A79E-DB14FB94C855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форм и методов взаимодействия органов исполнительной  власти,  местного самоуправления и  малого  предпринимательства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9152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ка и обсуждение проектов нормативных правовых актов, регулирующих предпринимательскую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ие конференций, семинаров, круглых столов по обсуждению актуальных для предпринимателей 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Дней предпринимательства Мурма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ие встреч Губернатора Мурманской области и глав органов местного самоуправления с предпринима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0B5AE-9AB3-4A80-A81C-CC3C02D5D1FE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орм саморегулирования и самоуправления предпринимательской деятельностью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ежегодного конкурса «Предприниматель г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городских конкурсов профессионального мастерства и др. среди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йствие формированию и развитию кооперативов, профессиональных союзов, объединений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едрение системы добровольной серт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57273-8867-4E61-917E-2DF3BE3BCBB2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инансовые ресурсы поддержки мал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484280"/>
          <a:ext cx="8496000" cy="4854600"/>
        </p:xfrm>
        <a:graphic>
          <a:graphicData uri="http://schemas.openxmlformats.org/drawingml/2006/table">
            <a:tbl>
              <a:tblPr/>
              <a:tblGrid>
                <a:gridCol w="3336840"/>
                <a:gridCol w="1031760"/>
                <a:gridCol w="1031760"/>
                <a:gridCol w="1032120"/>
                <a:gridCol w="1030320"/>
                <a:gridCol w="103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и источники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(тыс. рублей), в том числ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9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4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7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област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8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елевое финансирование мероприятий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редиты област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гарантии област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ы и гарантии муниципальных бюдж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бюджетные источ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1992240" y="5196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77840" y="584748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009999"/>
                </a:solidFill>
                <a:uFillTx/>
                <a:latin typeface="Arial"/>
                <a:ea typeface="Times New Roman"/>
                <a:hlinkClick r:id="rId2" action="ppaction://hlinksldjump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4A5CB-78AE-4F2F-B89D-58C33ACB94EB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инансовые ресурсы поддержки мал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53452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700280"/>
            <a:ext cx="8364240" cy="59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областного бюджета выплачены субсидии на сумму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 тыс. рублей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ализовано 5 инвестицион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областного бюджета выплачены субсидии на сумму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400 тыс. рублей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ализовано 12 инвестиционных про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результатам конкурса Минэкономразвития РФ получено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400 тыс. руб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з федерального бюджета на выплату субсидий и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6 млн. руб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 оплату гарантий и поручительств субъектам малого предприниматель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бластном бюджете на выплату субсидии предусмотрено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4 млн. руб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уже предоставлены субсидии 13 субъектам малого предприниматель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результатам конкурса Минэкономразвития РФ получен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 млн. руб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з федерального бюджета на выплату субсидий и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 тыс. руб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 поддержку экспортно-ориентированных 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619D7-D670-46EE-AC5F-5CA7693AB7EA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блемы развития малого бизнеса в Мурман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ные издержки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зкая рентаб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министративные и рыночные барь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уп к финансовым ресур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уп к объектам недвижимости и оборудов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к квалифицированных рабочих кадров и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блемы выхода на межрегиональные и международные ры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4FFE9-2947-4062-8C96-C66D76A257F0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тегические на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е условий для начала бизн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эффективности и конкурентоспособности малого предпринима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частно-государственного партне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етей межрегионального и международного сотрудни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28A4E-5060-4D86-9CC3-9962E3E403D8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лое предпринимательство Мурманск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60 малых пред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ло 18 тыс. индивидуальных предприним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50 тысяч наемных рабо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2E261-E41F-492A-B00D-1DE704DD2D33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9" descr="Оз. Верхнее, Кировский филиал Санкт-Петербургского горного института (Технического Университета)"/>
          <p:cNvPicPr/>
          <p:nvPr/>
        </p:nvPicPr>
        <p:blipFill>
          <a:blip r:embed="rId2"/>
          <a:stretch/>
        </p:blipFill>
        <p:spPr>
          <a:xfrm>
            <a:off x="380880" y="373392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52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g-036" descr="Вид на город 3"/>
          <p:cNvPicPr/>
          <p:nvPr/>
        </p:nvPicPr>
        <p:blipFill>
          <a:blip r:embed="rId3"/>
          <a:stretch/>
        </p:blipFill>
        <p:spPr>
          <a:xfrm>
            <a:off x="4952880" y="3657600"/>
            <a:ext cx="3657600" cy="2727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458200" y="64008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12" descr="Улица Ферсмана"/>
          <p:cNvPicPr/>
          <p:nvPr/>
        </p:nvPicPr>
        <p:blipFill>
          <a:blip r:embed="rId4"/>
          <a:stretch/>
        </p:blipFill>
        <p:spPr>
          <a:xfrm>
            <a:off x="4876920" y="318960"/>
            <a:ext cx="3886200" cy="2833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2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S08" descr="Вид на нижнюю часть города"/>
          <p:cNvPicPr/>
          <p:nvPr/>
        </p:nvPicPr>
        <p:blipFill>
          <a:blip r:embed="rId5"/>
          <a:stretch/>
        </p:blipFill>
        <p:spPr>
          <a:xfrm>
            <a:off x="380880" y="322200"/>
            <a:ext cx="3810240" cy="2840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43000" y="3108240"/>
            <a:ext cx="701028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69369-30D9-421D-9019-4858C3FFBB73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исленность занятых на малых предприятиях по отраслям, 2005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40320" y="3405240"/>
            <a:ext cx="63360" cy="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533520" y="1905120"/>
          <a:ext cx="8381880" cy="46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905120"/>
                    <a:ext cx="8381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6F810-75CD-4BB1-960F-7F7CCC2E74CC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715000"/>
            <a:ext cx="9144000" cy="8366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458200" y="64008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7524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ост объема произведенных товаров и услуг на 18% (без торговл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величение заработной платы работников на 23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ост инвестиций на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величение налоговых поступлений на 3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витие малого предпринимательств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в 2005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8D09E-766C-4C6F-946A-0D8D727D4865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клад малых предприятий в экономику области, 200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58200" y="64008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600200"/>
            <a:ext cx="883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% занятых в экономике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% в общем объеме отгруженных  товаров собственного производства, выполненных работ и усл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,2 % грузов, перевезенных автомобильным транспор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% объема строитель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5% оборота общественного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ления по специальным налоговым режимам составили 5,5% доходов местных бюдж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7FC2D-3255-4F04-9118-0E56FADC557D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логообложение малого бизнеса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64008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419720" y="1523880"/>
          <a:ext cx="420984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1523880"/>
                    <a:ext cx="4209840" cy="4525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0880" y="152388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бщая система налогообложения юридически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бщая система налогообложения индивидуальных предпринимателей без образования юридического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ециальные налоговые режи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Упрощенная система налогооб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истема налогообложения в виде единого налога на вмененный доход для отдельных видов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A1F92-1B8A-45AF-A37E-BFE952F5C0B7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ноз развития малых предприятий Мурман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32000" y="1413000"/>
          <a:ext cx="7345440" cy="51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413000"/>
                    <a:ext cx="734544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68360" y="1557360"/>
          <a:ext cx="7999200" cy="489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1557360"/>
                    <a:ext cx="7999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5B1CD-8D03-4DDD-B18A-BEBE6C3826F4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егиональная целевая програм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«Развитие малого предпринимательства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на 2005-2008 год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030DC-7971-4EB4-8791-F56CF8429208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рганизационно-правовое обеспечение эффективной  предпринимательской 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йствие продвижению товаров и услуг субъектов малого предпринимательства на региональные, межрегиональные и международные ры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инновационной инфраструктуры и  информационное обеспечение предприним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шение социальных задач, в том числе  социальная защита предпринимателей и наемных работников, сокращение бедности и безрабо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форм и методов взаимодействия органов исполнительной  власти,  местного самоуправления и  малого  предпринимательства  на территории Мурманской област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Развитие форм саморегулирования и самоуправления предпринимательской деятельностью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зентация 27.06.06 г. Семинар DE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60CBA-ABFB-4490-86BA-2F252A108D0F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09:19:43Z</dcterms:created>
  <dc:creator>Семенов С.А.</dc:creator>
  <dc:description/>
  <dc:language>en-US</dc:language>
  <cp:lastModifiedBy>Борисенко Ольга Константиновна</cp:lastModifiedBy>
  <dcterms:modified xsi:type="dcterms:W3CDTF">2006-06-27T05:18:24Z</dcterms:modified>
  <cp:revision>539</cp:revision>
  <dc:subject/>
  <dc:title>Проогноз социально-экономического развития Мурманской области на 2006-2008 годы</dc:title>
</cp:coreProperties>
</file>